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0.wmf" ContentType="image/x-wmf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5.gif" ContentType="image/gif"/>
  <Override PartName="/ppt/media/image33.png" ContentType="image/png"/>
  <Override PartName="/ppt/media/image39.png" ContentType="image/png"/>
  <Override PartName="/ppt/media/image9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10.png" ContentType="image/png"/>
  <Override PartName="/ppt/media/image13.png" ContentType="image/png"/>
  <Override PartName="/ppt/media/image12.jpeg" ContentType="image/jpeg"/>
  <Override PartName="/ppt/media/image35.png" ContentType="image/png"/>
  <Override PartName="/ppt/media/image36.png" ContentType="image/png"/>
  <Override PartName="/ppt/media/image14.jpeg" ContentType="image/jpeg"/>
  <Override PartName="/ppt/media/image41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.gif" ContentType="image/gif"/>
  <Override PartName="/ppt/media/image6.gif" ContentType="image/gif"/>
  <Override PartName="/ppt/media/image29.png" ContentType="image/png"/>
  <Override PartName="/ppt/media/image2.png" ContentType="image/png"/>
  <Override PartName="/ppt/media/image32.gif" ContentType="image/gif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F081-333D-4944-8F47-84FD1EC37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4B1-D189-449F-B9DD-F6DFF69FB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3333-2A63-4519-B45B-18F6F64E5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A756-05D7-4102-9AFC-F7971AC4A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1103-9782-467C-85A9-AB56E55CA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384-CACF-4C83-8309-39FE7FDA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D4B-BE0E-4ECA-8B15-75BCE114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2BD-74DE-4AE2-8828-F3E7662A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DBE-0688-4E0E-BE83-1851E17D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4C3-CC66-4B16-8DF2-26A0C033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772-2140-414B-823A-9B2EA7E9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5EA-A02A-4FA4-B710-CD76219A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321-3C23-4F97-862C-EE403638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91E-7A1A-40EB-8000-960265DA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1AC-0A3A-4B66-B400-8706E30D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374-97F2-472A-8AF3-D5818CC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CBB-13EC-4B07-8267-A4364B07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2A73-0F53-4B0C-91B4-D632C690E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ucmp.berkeley.edu/history/leeuwen/leeuwmicro.gif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438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A Presentation b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Vandana Aggarw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ecturer in Botany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Govt. College of Education 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handigarh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covery of   C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&amp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Cell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6191280"/>
            <a:ext cx="549576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5486400" y="0"/>
            <a:ext cx="549576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5495760" cy="66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4"/>
          <a:stretch/>
        </p:blipFill>
        <p:spPr>
          <a:xfrm>
            <a:off x="5486400" y="6191280"/>
            <a:ext cx="549576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6858000" y="38098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biology_md_wht1.gif"/>
          <p:cNvPicPr/>
          <p:nvPr/>
        </p:nvPicPr>
        <p:blipFill>
          <a:blip r:embed="rId6"/>
          <a:stretch/>
        </p:blipFill>
        <p:spPr>
          <a:xfrm>
            <a:off x="609480" y="838080"/>
            <a:ext cx="114300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ractice.gif"/>
          <p:cNvPicPr/>
          <p:nvPr/>
        </p:nvPicPr>
        <p:blipFill>
          <a:blip r:embed="rId7"/>
          <a:stretch/>
        </p:blipFill>
        <p:spPr>
          <a:xfrm>
            <a:off x="7620120" y="533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bioanim.gif"/>
          <p:cNvPicPr/>
          <p:nvPr/>
        </p:nvPicPr>
        <p:blipFill>
          <a:blip r:embed="rId8"/>
          <a:stretch/>
        </p:blipFill>
        <p:spPr>
          <a:xfrm>
            <a:off x="533520" y="3505320"/>
            <a:ext cx="1190520" cy="206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ancing_elephant.gif"/>
          <p:cNvPicPr/>
          <p:nvPr/>
        </p:nvPicPr>
        <p:blipFill>
          <a:blip r:embed="rId9"/>
          <a:stretch/>
        </p:blipFill>
        <p:spPr>
          <a:xfrm>
            <a:off x="3886200" y="685800"/>
            <a:ext cx="80964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54097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rkinje coined the term ‘protoplasm’ for the fluid substance of the cel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111120" y="556272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rkinje (1787-186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5538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143000" y="1828800"/>
            <a:ext cx="7086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etween the Hooke/Leuwenhoek discoveries and the mid 19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century, very little cell advancements were ma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is is probably due to the widely accepted, traditional belief in Spontaneous Gener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Mice from dirty clothes/corn hus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Maggots from rotting me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476280" cy="392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219640" y="6381720"/>
            <a:ext cx="392436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3"/>
          <a:stretch/>
        </p:blipFill>
        <p:spPr>
          <a:xfrm>
            <a:off x="8667720" y="2514600"/>
            <a:ext cx="476280" cy="392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4"/>
          <a:stretch/>
        </p:blipFill>
        <p:spPr>
          <a:xfrm>
            <a:off x="457200" y="0"/>
            <a:ext cx="3924360" cy="476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674640" y="1874880"/>
            <a:ext cx="3936960" cy="2719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4794120" y="1589040"/>
            <a:ext cx="376740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People throughout the Middle Ages believed that mice could be “created” spontaneously by putting grain in  dark, quiet place and leaving it for a few weeks. Dirty clothes were also thought to be the source of their cre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Action Button: Back or Previous 3"/>
          <p:cNvGrpSpPr/>
          <p:nvPr/>
        </p:nvGrpSpPr>
        <p:grpSpPr>
          <a:xfrm>
            <a:off x="-30240" y="-30240"/>
            <a:ext cx="968400" cy="358920"/>
            <a:chOff x="-30240" y="-30240"/>
            <a:chExt cx="968400" cy="358920"/>
          </a:xfrm>
        </p:grpSpPr>
        <p:pic>
          <p:nvPicPr>
            <p:cNvPr id="112" name="Action Button: Back or Previous 3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-30240" y="-30240"/>
              <a:ext cx="9684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Action Button: Forward or Next 4"/>
          <p:cNvGrpSpPr/>
          <p:nvPr/>
        </p:nvGrpSpPr>
        <p:grpSpPr>
          <a:xfrm>
            <a:off x="8120160" y="-30240"/>
            <a:ext cx="1047600" cy="358920"/>
            <a:chOff x="8120160" y="-30240"/>
            <a:chExt cx="1047600" cy="358920"/>
          </a:xfrm>
        </p:grpSpPr>
        <p:pic>
          <p:nvPicPr>
            <p:cNvPr id="115" name="Action Button: Forward or Next 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120160" y="-30240"/>
              <a:ext cx="10476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153280" y="0"/>
              <a:ext cx="990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Century Advan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Pasteur"/>
          <p:cNvPicPr/>
          <p:nvPr/>
        </p:nvPicPr>
        <p:blipFill>
          <a:blip r:embed="rId1"/>
          <a:stretch/>
        </p:blipFill>
        <p:spPr>
          <a:xfrm>
            <a:off x="380880" y="2895480"/>
            <a:ext cx="2914920" cy="3711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20574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ch doubt existed around Spontaneous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clusively disproved by Louis Past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701440" y="3244680"/>
            <a:ext cx="381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asteur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mmm, I don’t think so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2" descr="bd10399_"/>
          <p:cNvPicPr/>
          <p:nvPr/>
        </p:nvPicPr>
        <p:blipFill>
          <a:blip r:embed="rId2"/>
          <a:stretch/>
        </p:blipFill>
        <p:spPr>
          <a:xfrm>
            <a:off x="3352680" y="4876920"/>
            <a:ext cx="1820880" cy="1765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5421960" y="548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3" descr="na01133a"/>
          <p:cNvPicPr/>
          <p:nvPr/>
        </p:nvPicPr>
        <p:blipFill>
          <a:blip r:embed="rId3"/>
          <a:stretch/>
        </p:blipFill>
        <p:spPr>
          <a:xfrm>
            <a:off x="5715000" y="4724280"/>
            <a:ext cx="6066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Mouse"/>
          <p:cNvPicPr/>
          <p:nvPr/>
        </p:nvPicPr>
        <p:blipFill>
          <a:blip r:embed="rId4"/>
          <a:stretch/>
        </p:blipFill>
        <p:spPr>
          <a:xfrm>
            <a:off x="6781680" y="3048120"/>
            <a:ext cx="2057400" cy="23619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6489000" y="4572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8534520" y="34290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chleiden (1838) and Schwann (1839) proposed cell theory which states that all animals and plants are composed of cells and that cell is the basic unit of lif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2085840" cy="2619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916920" y="53341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odor Schwann ( 1810-188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Mathias Schleiden"/>
          <p:cNvPicPr/>
          <p:nvPr/>
        </p:nvPicPr>
        <p:blipFill>
          <a:blip r:embed="rId2"/>
          <a:stretch/>
        </p:blipFill>
        <p:spPr>
          <a:xfrm>
            <a:off x="5486400" y="2514600"/>
            <a:ext cx="1962000" cy="24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4957560" y="5334120"/>
            <a:ext cx="37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hias Schleiden (1804-188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1066680" y="5486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58- Rudolf Virchow, German physician, after extensive study of cells further expanded the cell theory by his  concluding  dictum, "Omnis cellula e cellula“ which means , "All cells only arise from pre-existing cells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482560" y="3049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velopment of Cell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447920" y="609120"/>
            <a:ext cx="73152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cell theory states tha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All life forms are made from one or more cell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cell is the smallest and the basic unit of life in all living thing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Cells only arise from pre-existing cell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52280" y="-457200"/>
            <a:ext cx="105120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4"/>
          <a:stretch/>
        </p:blipFill>
        <p:spPr>
          <a:xfrm>
            <a:off x="228600" y="518148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" descr=""/>
          <p:cNvPicPr/>
          <p:nvPr/>
        </p:nvPicPr>
        <p:blipFill>
          <a:blip r:embed="rId5"/>
          <a:stretch/>
        </p:blipFill>
        <p:spPr>
          <a:xfrm>
            <a:off x="1371600" y="518148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6"/>
          <a:stretch/>
        </p:blipFill>
        <p:spPr>
          <a:xfrm>
            <a:off x="2514600" y="518148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7"/>
          <a:stretch/>
        </p:blipFill>
        <p:spPr>
          <a:xfrm>
            <a:off x="3657600" y="518148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"/>
          <p:cNvPicPr/>
          <p:nvPr/>
        </p:nvPicPr>
        <p:blipFill>
          <a:blip r:embed="rId8"/>
          <a:stretch/>
        </p:blipFill>
        <p:spPr>
          <a:xfrm>
            <a:off x="4648320" y="518148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9"/>
          <a:stretch/>
        </p:blipFill>
        <p:spPr>
          <a:xfrm>
            <a:off x="5638680" y="5181480"/>
            <a:ext cx="10512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10"/>
          <a:stretch/>
        </p:blipFill>
        <p:spPr>
          <a:xfrm>
            <a:off x="6629400" y="518148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"/>
          <p:cNvPicPr/>
          <p:nvPr/>
        </p:nvPicPr>
        <p:blipFill>
          <a:blip r:embed="rId11"/>
          <a:stretch/>
        </p:blipFill>
        <p:spPr>
          <a:xfrm>
            <a:off x="304920" y="274320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"/>
          <p:cNvPicPr/>
          <p:nvPr/>
        </p:nvPicPr>
        <p:blipFill>
          <a:blip r:embed="rId12"/>
          <a:stretch/>
        </p:blipFill>
        <p:spPr>
          <a:xfrm>
            <a:off x="7848720" y="5105520"/>
            <a:ext cx="105084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"/>
          <p:cNvPicPr/>
          <p:nvPr/>
        </p:nvPicPr>
        <p:blipFill>
          <a:blip r:embed="rId13"/>
          <a:stretch/>
        </p:blipFill>
        <p:spPr>
          <a:xfrm>
            <a:off x="228600" y="685800"/>
            <a:ext cx="1050840" cy="1371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5562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With the invention of the electron microscope, it was possible to observe and understand the complex structure of the cell and its various organelle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676840" y="838080"/>
            <a:ext cx="3467160" cy="443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373356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Organelles - O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Mitosis Interphase 4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>
            <a:off x="3581280" y="1905120"/>
            <a:ext cx="0" cy="761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666880" y="1523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autoRev="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1331E-006 L 3.33333E-006 0.29959 E">
                                      <p:cBhvr>
                                        <p:cTn id="7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Organelles - O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Mitosis Interphase 4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5333760"/>
          </a:xfrm>
          <a:prstGeom prst="rect">
            <a:avLst/>
          </a:prstGeom>
          <a:ln w="0">
            <a:noFill/>
          </a:ln>
        </p:spPr>
      </p:pic>
      <p:sp>
        <p:nvSpPr>
          <p:cNvPr id="158" name="Line 4"/>
          <p:cNvSpPr/>
          <p:nvPr/>
        </p:nvSpPr>
        <p:spPr>
          <a:xfrm>
            <a:off x="3657600" y="228600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971800" y="1843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C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l living things are made of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ell is the smallest living unit of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verage human being is composed of around 100 Trillion individual cells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885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Organelles - O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Mitosis Interphase 4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533376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>
            <a:off x="4343400" y="251460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276720" y="2071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Organelles - O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Mitosis Interphase 4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337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3505320" y="2209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hromat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4114800" y="25146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 us sum up……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916200" y="2971800"/>
            <a:ext cx="18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286000" y="1905120"/>
            <a:ext cx="4572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ll life forms are made from one or more cell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ells only arise from pre-existing cell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ell is the stuctural and functional unit of lif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ach cell has got certain specific components within it known as cell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133720" y="42670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1504800" cy="184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"/>
          <p:cNvPicPr/>
          <p:nvPr/>
        </p:nvPicPr>
        <p:blipFill>
          <a:blip r:embed="rId2"/>
          <a:stretch/>
        </p:blipFill>
        <p:spPr>
          <a:xfrm>
            <a:off x="0" y="1828800"/>
            <a:ext cx="150480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"/>
          <p:cNvPicPr/>
          <p:nvPr/>
        </p:nvPicPr>
        <p:blipFill>
          <a:blip r:embed="rId3"/>
          <a:stretch/>
        </p:blipFill>
        <p:spPr>
          <a:xfrm>
            <a:off x="0" y="3657600"/>
            <a:ext cx="1504800" cy="1847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"/>
          <p:cNvPicPr/>
          <p:nvPr/>
        </p:nvPicPr>
        <p:blipFill>
          <a:blip r:embed="rId4"/>
          <a:stretch/>
        </p:blipFill>
        <p:spPr>
          <a:xfrm>
            <a:off x="0" y="54864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914400" y="8380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 Who among the following  persons first "named" cells after examining cork under a microscop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914400" y="37339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 Which scientist is not associated with the study of cell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0" y="0"/>
            <a:ext cx="4724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LET US ANSWER…….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1143000" y="1752480"/>
            <a:ext cx="60958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odore Schwan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udolf Virch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tthias Schleid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bert Hoo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1143000" y="45720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ton von Leeuwenho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obert Hoo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bert Ei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obert Br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762120" y="3809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914400" y="6094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3. According to Cell Theory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295280" y="1219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 cells have cell wa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lls can arise spontaneous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cell is the basic unit of structure in living th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 cells have a nucleu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914400" y="3276720"/>
            <a:ext cx="61722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A unicellular organism is one which…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1295280" y="3886200"/>
            <a:ext cx="5943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live inside of another organ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s of only one c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only survive in an environment with 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umes other organisms for nutr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685800" y="5335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5. You can see most cells with your ey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685800" y="198108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6. Cells are generated spontaneous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685800" y="327672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7. The cell is the basic unit of lif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5800" y="44956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8. "Omnis cellula e cellula“ means , "All cells only arise from pre-existing cells“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21"/>
          <p:cNvGrpSpPr/>
          <p:nvPr/>
        </p:nvGrpSpPr>
        <p:grpSpPr>
          <a:xfrm>
            <a:off x="1143000" y="914400"/>
            <a:ext cx="5029200" cy="5061960"/>
            <a:chOff x="1143000" y="914400"/>
            <a:chExt cx="5029200" cy="5061960"/>
          </a:xfrm>
        </p:grpSpPr>
        <p:sp>
          <p:nvSpPr>
            <p:cNvPr id="194" name="TextBox 10"/>
            <p:cNvSpPr/>
            <p:nvPr/>
          </p:nvSpPr>
          <p:spPr>
            <a:xfrm>
              <a:off x="1143000" y="91440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1143000" y="373356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7"/>
            <p:cNvSpPr/>
            <p:nvPr/>
          </p:nvSpPr>
          <p:spPr>
            <a:xfrm>
              <a:off x="1143000" y="243828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18"/>
            <p:cNvSpPr/>
            <p:nvPr/>
          </p:nvSpPr>
          <p:spPr>
            <a:xfrm>
              <a:off x="1143000" y="533376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3" descr="Mitosis Interphase 4"/>
          <p:cNvPicPr/>
          <p:nvPr/>
        </p:nvPicPr>
        <p:blipFill>
          <a:blip r:embed="rId1"/>
          <a:stretch/>
        </p:blipFill>
        <p:spPr>
          <a:xfrm>
            <a:off x="3657600" y="1752480"/>
            <a:ext cx="4952880" cy="37594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5"/>
          <p:cNvGrpSpPr/>
          <p:nvPr/>
        </p:nvGrpSpPr>
        <p:grpSpPr>
          <a:xfrm>
            <a:off x="5638320" y="2666880"/>
            <a:ext cx="1271520" cy="381240"/>
            <a:chOff x="5638320" y="2666880"/>
            <a:chExt cx="1271520" cy="381240"/>
          </a:xfrm>
        </p:grpSpPr>
        <p:sp>
          <p:nvSpPr>
            <p:cNvPr id="200" name="Line 4"/>
            <p:cNvSpPr/>
            <p:nvPr/>
          </p:nvSpPr>
          <p:spPr>
            <a:xfrm flipH="1">
              <a:off x="5638320" y="2895840"/>
              <a:ext cx="914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Box 7"/>
            <p:cNvSpPr/>
            <p:nvPr/>
          </p:nvSpPr>
          <p:spPr>
            <a:xfrm>
              <a:off x="6555240" y="266688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Rectangle 12"/>
          <p:cNvSpPr/>
          <p:nvPr/>
        </p:nvSpPr>
        <p:spPr>
          <a:xfrm>
            <a:off x="838080" y="5335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9.Identify Label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914400" y="2209680"/>
            <a:ext cx="457200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. 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. Nucle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ction Button: Custom 16"/>
          <p:cNvSpPr/>
          <p:nvPr/>
        </p:nvSpPr>
        <p:spPr>
          <a:xfrm>
            <a:off x="914400" y="2743200"/>
            <a:ext cx="2133720" cy="38088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911" h="21600">
                <a:moveTo>
                  <a:pt x="0" y="0"/>
                </a:moveTo>
                <a:lnTo>
                  <a:pt x="120911" y="0"/>
                </a:lnTo>
                <a:lnTo>
                  <a:pt x="120911" y="21600"/>
                </a:lnTo>
                <a:lnTo>
                  <a:pt x="0" y="21600"/>
                </a:lnTo>
                <a:close/>
              </a:path>
              <a:path fill="lightenLess" w="120911" h="21600">
                <a:moveTo>
                  <a:pt x="0" y="0"/>
                </a:moveTo>
                <a:lnTo>
                  <a:pt x="120911" y="0"/>
                </a:lnTo>
                <a:lnTo>
                  <a:pt x="119511" y="1400"/>
                </a:lnTo>
                <a:lnTo>
                  <a:pt x="1400" y="1400"/>
                </a:lnTo>
                <a:close/>
              </a:path>
              <a:path fill="darken" w="120911" h="21600">
                <a:moveTo>
                  <a:pt x="120911" y="0"/>
                </a:moveTo>
                <a:lnTo>
                  <a:pt x="120911" y="21600"/>
                </a:lnTo>
                <a:lnTo>
                  <a:pt x="119511" y="20200"/>
                </a:lnTo>
                <a:lnTo>
                  <a:pt x="119511" y="1400"/>
                </a:lnTo>
                <a:close/>
              </a:path>
              <a:path fill="darkenLess" w="120911" h="21600">
                <a:moveTo>
                  <a:pt x="120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11" y="20200"/>
                </a:lnTo>
                <a:close/>
              </a:path>
              <a:path fill="lighten" w="120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ction Button: Custom 17"/>
          <p:cNvSpPr/>
          <p:nvPr/>
        </p:nvSpPr>
        <p:spPr>
          <a:xfrm>
            <a:off x="838080" y="3276720"/>
            <a:ext cx="2210040" cy="380880"/>
          </a:xfrm>
          <a:custGeom>
            <a:avLst/>
            <a:gdLst>
              <a:gd name="textAreaLeft" fmla="*/ 24480 w 2210040"/>
              <a:gd name="textAreaRight" fmla="*/ 2185560 w 2210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5235" h="21600">
                <a:moveTo>
                  <a:pt x="0" y="0"/>
                </a:moveTo>
                <a:lnTo>
                  <a:pt x="125235" y="0"/>
                </a:lnTo>
                <a:lnTo>
                  <a:pt x="125235" y="21600"/>
                </a:lnTo>
                <a:lnTo>
                  <a:pt x="0" y="21600"/>
                </a:lnTo>
                <a:close/>
              </a:path>
              <a:path fill="lightenLess" w="125235" h="21600">
                <a:moveTo>
                  <a:pt x="0" y="0"/>
                </a:moveTo>
                <a:lnTo>
                  <a:pt x="125235" y="0"/>
                </a:lnTo>
                <a:lnTo>
                  <a:pt x="123835" y="1400"/>
                </a:lnTo>
                <a:lnTo>
                  <a:pt x="1400" y="1400"/>
                </a:lnTo>
                <a:close/>
              </a:path>
              <a:path fill="darken" w="125235" h="21600">
                <a:moveTo>
                  <a:pt x="125235" y="0"/>
                </a:moveTo>
                <a:lnTo>
                  <a:pt x="125235" y="21600"/>
                </a:lnTo>
                <a:lnTo>
                  <a:pt x="123835" y="20200"/>
                </a:lnTo>
                <a:lnTo>
                  <a:pt x="123835" y="1400"/>
                </a:lnTo>
                <a:close/>
              </a:path>
              <a:path fill="darkenLess" w="125235" h="21600">
                <a:moveTo>
                  <a:pt x="125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835" y="20200"/>
                </a:lnTo>
                <a:close/>
              </a:path>
              <a:path fill="lighten" w="125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ction Button: Custom 18">
            <a:hlinkClick r:id="" action="ppaction://hlinkshowjump?jump=nextslide"/>
          </p:cNvPr>
          <p:cNvSpPr/>
          <p:nvPr/>
        </p:nvSpPr>
        <p:spPr>
          <a:xfrm>
            <a:off x="914400" y="2209680"/>
            <a:ext cx="2133720" cy="38124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0797" h="21600">
                <a:moveTo>
                  <a:pt x="0" y="0"/>
                </a:moveTo>
                <a:lnTo>
                  <a:pt x="120797" y="0"/>
                </a:lnTo>
                <a:lnTo>
                  <a:pt x="120797" y="21600"/>
                </a:lnTo>
                <a:lnTo>
                  <a:pt x="0" y="21600"/>
                </a:lnTo>
                <a:close/>
              </a:path>
              <a:path fill="lightenLess" w="120797" h="21600">
                <a:moveTo>
                  <a:pt x="0" y="0"/>
                </a:moveTo>
                <a:lnTo>
                  <a:pt x="120797" y="0"/>
                </a:lnTo>
                <a:lnTo>
                  <a:pt x="119397" y="1400"/>
                </a:lnTo>
                <a:lnTo>
                  <a:pt x="1400" y="1400"/>
                </a:lnTo>
                <a:close/>
              </a:path>
              <a:path fill="darken" w="120797" h="21600">
                <a:moveTo>
                  <a:pt x="120797" y="0"/>
                </a:moveTo>
                <a:lnTo>
                  <a:pt x="120797" y="21600"/>
                </a:lnTo>
                <a:lnTo>
                  <a:pt x="119397" y="20200"/>
                </a:lnTo>
                <a:lnTo>
                  <a:pt x="119397" y="1400"/>
                </a:lnTo>
                <a:close/>
              </a:path>
              <a:path fill="darkenLess" w="120797" h="21600">
                <a:moveTo>
                  <a:pt x="12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397" y="20200"/>
                </a:lnTo>
                <a:close/>
              </a:path>
              <a:path fill="lighten" w="12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2" descr="Mitosis Interphase 4"/>
          <p:cNvPicPr/>
          <p:nvPr/>
        </p:nvPicPr>
        <p:blipFill>
          <a:blip r:embed="rId1"/>
          <a:stretch/>
        </p:blipFill>
        <p:spPr>
          <a:xfrm>
            <a:off x="3657600" y="1752480"/>
            <a:ext cx="4952880" cy="375948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8"/>
          <p:cNvGrpSpPr/>
          <p:nvPr/>
        </p:nvGrpSpPr>
        <p:grpSpPr>
          <a:xfrm>
            <a:off x="6171840" y="3276720"/>
            <a:ext cx="1728720" cy="368280"/>
            <a:chOff x="6171840" y="3276720"/>
            <a:chExt cx="1728720" cy="368280"/>
          </a:xfrm>
        </p:grpSpPr>
        <p:sp>
          <p:nvSpPr>
            <p:cNvPr id="209" name="Line 4"/>
            <p:cNvSpPr/>
            <p:nvPr/>
          </p:nvSpPr>
          <p:spPr>
            <a:xfrm flipH="1" flipV="1">
              <a:off x="6171840" y="3428640"/>
              <a:ext cx="1371960" cy="45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Box 8"/>
            <p:cNvSpPr/>
            <p:nvPr/>
          </p:nvSpPr>
          <p:spPr>
            <a:xfrm>
              <a:off x="7545960" y="327672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Rectangle 11"/>
          <p:cNvSpPr/>
          <p:nvPr/>
        </p:nvSpPr>
        <p:spPr>
          <a:xfrm>
            <a:off x="838080" y="5335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0.Identify Label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914400" y="2209680"/>
            <a:ext cx="457200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. 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. Nucle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ction Button: Custom 14"/>
          <p:cNvSpPr/>
          <p:nvPr/>
        </p:nvSpPr>
        <p:spPr>
          <a:xfrm>
            <a:off x="914400" y="2743200"/>
            <a:ext cx="2133720" cy="38088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911" h="21600">
                <a:moveTo>
                  <a:pt x="0" y="0"/>
                </a:moveTo>
                <a:lnTo>
                  <a:pt x="120911" y="0"/>
                </a:lnTo>
                <a:lnTo>
                  <a:pt x="120911" y="21600"/>
                </a:lnTo>
                <a:lnTo>
                  <a:pt x="0" y="21600"/>
                </a:lnTo>
                <a:close/>
              </a:path>
              <a:path fill="lightenLess" w="120911" h="21600">
                <a:moveTo>
                  <a:pt x="0" y="0"/>
                </a:moveTo>
                <a:lnTo>
                  <a:pt x="120911" y="0"/>
                </a:lnTo>
                <a:lnTo>
                  <a:pt x="119511" y="1400"/>
                </a:lnTo>
                <a:lnTo>
                  <a:pt x="1400" y="1400"/>
                </a:lnTo>
                <a:close/>
              </a:path>
              <a:path fill="darken" w="120911" h="21600">
                <a:moveTo>
                  <a:pt x="120911" y="0"/>
                </a:moveTo>
                <a:lnTo>
                  <a:pt x="120911" y="21600"/>
                </a:lnTo>
                <a:lnTo>
                  <a:pt x="119511" y="20200"/>
                </a:lnTo>
                <a:lnTo>
                  <a:pt x="119511" y="1400"/>
                </a:lnTo>
                <a:close/>
              </a:path>
              <a:path fill="darkenLess" w="120911" h="21600">
                <a:moveTo>
                  <a:pt x="120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11" y="20200"/>
                </a:lnTo>
                <a:close/>
              </a:path>
              <a:path fill="lighten" w="120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ction Button: Custom 15"/>
          <p:cNvSpPr/>
          <p:nvPr/>
        </p:nvSpPr>
        <p:spPr>
          <a:xfrm>
            <a:off x="838080" y="2209680"/>
            <a:ext cx="2133720" cy="38124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0797" h="21600">
                <a:moveTo>
                  <a:pt x="0" y="0"/>
                </a:moveTo>
                <a:lnTo>
                  <a:pt x="120797" y="0"/>
                </a:lnTo>
                <a:lnTo>
                  <a:pt x="120797" y="21600"/>
                </a:lnTo>
                <a:lnTo>
                  <a:pt x="0" y="21600"/>
                </a:lnTo>
                <a:close/>
              </a:path>
              <a:path fill="lightenLess" w="120797" h="21600">
                <a:moveTo>
                  <a:pt x="0" y="0"/>
                </a:moveTo>
                <a:lnTo>
                  <a:pt x="120797" y="0"/>
                </a:lnTo>
                <a:lnTo>
                  <a:pt x="119397" y="1400"/>
                </a:lnTo>
                <a:lnTo>
                  <a:pt x="1400" y="1400"/>
                </a:lnTo>
                <a:close/>
              </a:path>
              <a:path fill="darken" w="120797" h="21600">
                <a:moveTo>
                  <a:pt x="120797" y="0"/>
                </a:moveTo>
                <a:lnTo>
                  <a:pt x="120797" y="21600"/>
                </a:lnTo>
                <a:lnTo>
                  <a:pt x="119397" y="20200"/>
                </a:lnTo>
                <a:lnTo>
                  <a:pt x="119397" y="1400"/>
                </a:lnTo>
                <a:close/>
              </a:path>
              <a:path fill="darkenLess" w="120797" h="21600">
                <a:moveTo>
                  <a:pt x="12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397" y="20200"/>
                </a:lnTo>
                <a:close/>
              </a:path>
              <a:path fill="lighten" w="12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ction Button: Custom 16">
            <a:hlinkClick r:id="" action="ppaction://hlinkshowjump?jump=nextslide"/>
          </p:cNvPr>
          <p:cNvSpPr/>
          <p:nvPr/>
        </p:nvSpPr>
        <p:spPr>
          <a:xfrm>
            <a:off x="914400" y="3352680"/>
            <a:ext cx="2133720" cy="304920"/>
          </a:xfrm>
          <a:custGeom>
            <a:avLst/>
            <a:gdLst>
              <a:gd name="textAreaLeft" fmla="*/ 19440 w 2133720"/>
              <a:gd name="textAreaRight" fmla="*/ 2114280 w 2133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50996" h="21600">
                <a:moveTo>
                  <a:pt x="0" y="0"/>
                </a:moveTo>
                <a:lnTo>
                  <a:pt x="150996" y="0"/>
                </a:lnTo>
                <a:lnTo>
                  <a:pt x="150996" y="21600"/>
                </a:lnTo>
                <a:lnTo>
                  <a:pt x="0" y="21600"/>
                </a:lnTo>
                <a:close/>
              </a:path>
              <a:path fill="lightenLess" w="150996" h="21600">
                <a:moveTo>
                  <a:pt x="0" y="0"/>
                </a:moveTo>
                <a:lnTo>
                  <a:pt x="150996" y="0"/>
                </a:lnTo>
                <a:lnTo>
                  <a:pt x="149596" y="1400"/>
                </a:lnTo>
                <a:lnTo>
                  <a:pt x="1400" y="1400"/>
                </a:lnTo>
                <a:close/>
              </a:path>
              <a:path fill="darken" w="150996" h="21600">
                <a:moveTo>
                  <a:pt x="150996" y="0"/>
                </a:moveTo>
                <a:lnTo>
                  <a:pt x="150996" y="21600"/>
                </a:lnTo>
                <a:lnTo>
                  <a:pt x="149596" y="20200"/>
                </a:lnTo>
                <a:lnTo>
                  <a:pt x="149596" y="1400"/>
                </a:lnTo>
                <a:close/>
              </a:path>
              <a:path fill="darkenLess" w="150996" h="21600">
                <a:moveTo>
                  <a:pt x="150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596" y="20200"/>
                </a:lnTo>
                <a:close/>
              </a:path>
              <a:path fill="lighten" w="150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Mitosis Interphase 4"/>
          <p:cNvPicPr/>
          <p:nvPr/>
        </p:nvPicPr>
        <p:blipFill>
          <a:blip r:embed="rId1"/>
          <a:stretch/>
        </p:blipFill>
        <p:spPr>
          <a:xfrm>
            <a:off x="3657600" y="1752480"/>
            <a:ext cx="4952880" cy="3759480"/>
          </a:xfrm>
          <a:prstGeom prst="rect">
            <a:avLst/>
          </a:prstGeom>
          <a:ln w="0">
            <a:noFill/>
          </a:ln>
        </p:spPr>
      </p:pic>
      <p:sp>
        <p:nvSpPr>
          <p:cNvPr id="217" name="Line 4"/>
          <p:cNvSpPr/>
          <p:nvPr/>
        </p:nvSpPr>
        <p:spPr>
          <a:xfrm flipH="1">
            <a:off x="5257800" y="2255760"/>
            <a:ext cx="1371600" cy="487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6629400" y="205740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914400" y="2209680"/>
            <a:ext cx="457200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. 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. Nucle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838080" y="5335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1.Identify Label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Action Button: Custom 9"/>
          <p:cNvSpPr/>
          <p:nvPr/>
        </p:nvSpPr>
        <p:spPr>
          <a:xfrm>
            <a:off x="914400" y="2209680"/>
            <a:ext cx="2133720" cy="38124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0797" h="21600">
                <a:moveTo>
                  <a:pt x="0" y="0"/>
                </a:moveTo>
                <a:lnTo>
                  <a:pt x="120797" y="0"/>
                </a:lnTo>
                <a:lnTo>
                  <a:pt x="120797" y="21600"/>
                </a:lnTo>
                <a:lnTo>
                  <a:pt x="0" y="21600"/>
                </a:lnTo>
                <a:close/>
              </a:path>
              <a:path fill="lightenLess" w="120797" h="21600">
                <a:moveTo>
                  <a:pt x="0" y="0"/>
                </a:moveTo>
                <a:lnTo>
                  <a:pt x="120797" y="0"/>
                </a:lnTo>
                <a:lnTo>
                  <a:pt x="119397" y="1400"/>
                </a:lnTo>
                <a:lnTo>
                  <a:pt x="1400" y="1400"/>
                </a:lnTo>
                <a:close/>
              </a:path>
              <a:path fill="darken" w="120797" h="21600">
                <a:moveTo>
                  <a:pt x="120797" y="0"/>
                </a:moveTo>
                <a:lnTo>
                  <a:pt x="120797" y="21600"/>
                </a:lnTo>
                <a:lnTo>
                  <a:pt x="119397" y="20200"/>
                </a:lnTo>
                <a:lnTo>
                  <a:pt x="119397" y="1400"/>
                </a:lnTo>
                <a:close/>
              </a:path>
              <a:path fill="darkenLess" w="120797" h="21600">
                <a:moveTo>
                  <a:pt x="12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397" y="20200"/>
                </a:lnTo>
                <a:close/>
              </a:path>
              <a:path fill="lighten" w="12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ction Button: Custom 10"/>
          <p:cNvSpPr/>
          <p:nvPr/>
        </p:nvSpPr>
        <p:spPr>
          <a:xfrm>
            <a:off x="838080" y="3276720"/>
            <a:ext cx="2210040" cy="457200"/>
          </a:xfrm>
          <a:custGeom>
            <a:avLst/>
            <a:gdLst>
              <a:gd name="textAreaLeft" fmla="*/ 29520 w 2210040"/>
              <a:gd name="textAreaRight" fmla="*/ 2180520 w 2210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2946" y="1400"/>
                </a:lnTo>
                <a:lnTo>
                  <a:pt x="1400" y="140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2946" y="20200"/>
                </a:lnTo>
                <a:lnTo>
                  <a:pt x="102946" y="140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46" y="202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ction Button: Custom 11">
            <a:hlinkClick r:id="" action="ppaction://hlinkshowjump?jump=nextslide"/>
          </p:cNvPr>
          <p:cNvSpPr/>
          <p:nvPr/>
        </p:nvSpPr>
        <p:spPr>
          <a:xfrm>
            <a:off x="914400" y="2743200"/>
            <a:ext cx="2133720" cy="38088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911" h="21600">
                <a:moveTo>
                  <a:pt x="0" y="0"/>
                </a:moveTo>
                <a:lnTo>
                  <a:pt x="120911" y="0"/>
                </a:lnTo>
                <a:lnTo>
                  <a:pt x="120911" y="21600"/>
                </a:lnTo>
                <a:lnTo>
                  <a:pt x="0" y="21600"/>
                </a:lnTo>
                <a:close/>
              </a:path>
              <a:path fill="lightenLess" w="120911" h="21600">
                <a:moveTo>
                  <a:pt x="0" y="0"/>
                </a:moveTo>
                <a:lnTo>
                  <a:pt x="120911" y="0"/>
                </a:lnTo>
                <a:lnTo>
                  <a:pt x="119511" y="1400"/>
                </a:lnTo>
                <a:lnTo>
                  <a:pt x="1400" y="1400"/>
                </a:lnTo>
                <a:close/>
              </a:path>
              <a:path fill="darken" w="120911" h="21600">
                <a:moveTo>
                  <a:pt x="120911" y="0"/>
                </a:moveTo>
                <a:lnTo>
                  <a:pt x="120911" y="21600"/>
                </a:lnTo>
                <a:lnTo>
                  <a:pt x="119511" y="20200"/>
                </a:lnTo>
                <a:lnTo>
                  <a:pt x="119511" y="1400"/>
                </a:lnTo>
                <a:close/>
              </a:path>
              <a:path fill="darkenLess" w="120911" h="21600">
                <a:moveTo>
                  <a:pt x="120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11" y="20200"/>
                </a:lnTo>
                <a:close/>
              </a:path>
              <a:path fill="lighten" w="120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609480" y="640800"/>
            <a:ext cx="85345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www.ucmp.berkeley.edu/history/leeuwenhoek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www.earthlife.net/search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http://www.ucmp.berkeley.edu/history/hooke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www.abdn.ac.uk/mediareleases/release.php?id=34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vlp.mpiwg-berlin.mpg.de/people/data?id=per12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kentsimmons.uwinnipeg.ca/cm1504/celltheory.ht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www.phy.cuhk.edu.hk/centrallaboratory/CM120/CM120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www.biology.iastate.edu/Courses/201L/Prot/*ProtisIndx.ht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www.bact.wisc.ed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www.worldofteaching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www.biology4kids.com/extras/quiz_cellintro/q04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microscope.mbl.edu/baypaul/microscope/animations/rarbur/metachaos.g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007640" y="15228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514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discovery of c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41008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ells were unknown until the invention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microscop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in the 1650’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scientists working independently built the first micro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nton van Leeuwenhoek in Hol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obert Hooke in Eng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565600" y="2490840"/>
            <a:ext cx="3210120" cy="24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obert Hooke (1635-170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143000"/>
            <a:ext cx="5943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65-  looked at a thin slice of cork under his primitive microsc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w something that he described as ‘looking like a honeycomb with a great many little boxes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86640" y="3809880"/>
            <a:ext cx="2457360" cy="289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819160" cy="209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ooke"/>
          <p:cNvPicPr/>
          <p:nvPr/>
        </p:nvPicPr>
        <p:blipFill>
          <a:blip r:embed="rId3"/>
          <a:stretch/>
        </p:blipFill>
        <p:spPr>
          <a:xfrm>
            <a:off x="6781680" y="838080"/>
            <a:ext cx="2362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oke’s cork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ed these boxes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ught that cells only existed in plants and fun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hookecork"/>
          <p:cNvPicPr/>
          <p:nvPr/>
        </p:nvPicPr>
        <p:blipFill>
          <a:blip r:embed="rId1"/>
          <a:stretch/>
        </p:blipFill>
        <p:spPr>
          <a:xfrm>
            <a:off x="4648320" y="1371600"/>
            <a:ext cx="34480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449532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ton van Leeuwenheok (1632-17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0" t="7921" r="0" b="7921"/>
          <a:stretch/>
        </p:blipFill>
        <p:spPr>
          <a:xfrm>
            <a:off x="228600" y="2286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5562360"/>
            <a:ext cx="47242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Dutch scientist invented the first microscop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e was the first to observe the free living cells such as  bacteria and protozoa in pond wate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microscop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28600"/>
            <a:ext cx="2895840" cy="4952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5591520" y="5410080"/>
            <a:ext cx="36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euwenhoek’s Micro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e called them “animalcule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e also observed blood cells from fish, birds, frogs, dogs, and huma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refore, it was known that cells are found in animals as well as pla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486400" y="91440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5410080" y="43434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5486400"/>
            <a:ext cx="8915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n 1833, Brown discovered the nucleus in cells of the orchi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248360" cy="4572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651040" y="533412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obert Br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662720" y="533412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1773 – 18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7772400" y="11430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7772400" y="20574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7772400" y="29718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6"/>
          <a:stretch/>
        </p:blipFill>
        <p:spPr>
          <a:xfrm>
            <a:off x="7772400" y="38862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7"/>
          <a:stretch/>
        </p:blipFill>
        <p:spPr>
          <a:xfrm>
            <a:off x="7772400" y="48006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8"/>
          <a:stretch/>
        </p:blipFill>
        <p:spPr>
          <a:xfrm>
            <a:off x="228600" y="2286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9"/>
          <a:stretch/>
        </p:blipFill>
        <p:spPr>
          <a:xfrm>
            <a:off x="228600" y="11430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10"/>
          <a:stretch/>
        </p:blipFill>
        <p:spPr>
          <a:xfrm>
            <a:off x="228600" y="20574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11"/>
          <a:stretch/>
        </p:blipFill>
        <p:spPr>
          <a:xfrm>
            <a:off x="228600" y="29718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12"/>
          <a:stretch/>
        </p:blipFill>
        <p:spPr>
          <a:xfrm>
            <a:off x="228600" y="3886200"/>
            <a:ext cx="1143000" cy="982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13"/>
          <a:stretch/>
        </p:blipFill>
        <p:spPr>
          <a:xfrm>
            <a:off x="228600" y="4800600"/>
            <a:ext cx="1143000" cy="982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886200" cy="4076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424800" y="533412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obert Brown's Micro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267080" y="5334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chid cells under Brown's micro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1:32:05Z</dcterms:created>
  <dc:creator>Shitanshu Aggarwal</dc:creator>
  <dc:description/>
  <dc:language>en-US</dc:language>
  <cp:lastModifiedBy>Vandana</cp:lastModifiedBy>
  <dcterms:modified xsi:type="dcterms:W3CDTF">2008-11-16T02:57:58Z</dcterms:modified>
  <cp:revision>30</cp:revision>
  <dc:subject/>
  <dc:title>The Fundamental Unit of Life-1 Discovery of Cell &amp; Cell Theory</dc:title>
</cp:coreProperties>
</file>