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6.gif" ContentType="image/gif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4.gif" ContentType="image/gif"/>
  <Override PartName="/ppt/media/image10.png" ContentType="image/png"/>
  <Override PartName="/ppt/media/image27.jpeg" ContentType="image/jpeg"/>
  <Override PartName="/ppt/media/image3.png" ContentType="image/png"/>
  <Override PartName="/ppt/media/image26.png" ContentType="image/png"/>
  <Override PartName="/ppt/media/image25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6CB3-9D95-4644-A768-89F766CA0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hyperlink" Target="http://www.mhhe.com/biosci/pae/botany/histology/html/parenchyma.htm" TargetMode="External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ps.k12.ar.us/massengale/images/art0037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8CF1-6138-47BF-8A00-8AC3AD03E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FAEC-AA46-4D37-B8B2-0EF35BF7E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hhe.com/biosci/pae/botany/histology/html/parenchyma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AE7F-2E92-4159-A501-A2BEB809E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tbn0.google.com/images?q=tbn:8ghKPCVm9zNpYM:http://marinebio.org/i/estuary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northern.edu/ramsayj/etechWeb/images/leaves/leaf%20example2%20copy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C70B-1BFA-4B77-B068-5DD3C94A9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botany.hawaii.edu/faculty/webb/BOT410/anatweb/pages/Collenchyma-1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FF1B-AEC6-42E6-885D-1739BF7FCD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28D3-A181-428B-8A96-9DDBDAE26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bs.utexas.edu/mauseth/weblab/webchap17bark/web17.1-4b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C93E-D8CB-4F0A-9A47-C143EA2F5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biology.about.com/library/weekly/aa030101a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ps.k12.ar.us/massengale/plant_structure_bi1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AF7A-5430-4192-B7C5-5D9E0209D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2.mcdaniel.edu/Biology/botf99/tissimages/meristemati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A811-0F82-4261-96FF-8828A49C3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ps.k12.ar.us/massengale/plant_structure_bi1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2D6A-5AB3-42EF-919F-4924B1DDA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87DD-775C-4578-8184-B07E324836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botany.uwc.ac.za/SCI_ED/grade10/plant_tissues/meristematic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vet.purdue.edu/bms/intl/nourpix/an0002r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8473-BE57-45AA-9DA9-62248C1BD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5A92-A427-426E-BABE-2FDCA7FC6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6702-4E7F-45BF-A3E7-FE6ABF4B2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ualr.edu/botany/meristems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biology-online.org/11/2_plant_tissues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5B02-7B75-46FA-B1D2-5FBF59A41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ps.k12.ar.us/massengale/plant_structure_bi1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5081-2E8B-4061-84DC-37DAE8BF8B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31ED-488A-4E7F-95D3-FA2E2A1F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A572-106D-4BA7-AE9E-6EEEC14E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E83-0B07-42E8-B58D-9CC1CEE7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CA21-70C7-4B01-A47E-96A85155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C71E-2239-40B4-AF81-393E8FE7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BDBA-460E-487F-B403-7ED1A64B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CEF8-28E9-4FAF-98F7-6F3806E0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5688-8795-4AC9-9FA6-CA8AC7A9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D419-4975-48B6-9F3F-4E524322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100B-A733-421E-9B3B-9F223E6E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4C80-B719-445F-97CC-11BD12D8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C63-7230-470E-B7CF-8DE24F67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33F6-16C0-475A-BEFB-4F1F283FC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iscali.co.uk/reference/encyclopaedia/hutchinson/m0007024.html" TargetMode="External"/><Relationship Id="rId2" Type="http://schemas.openxmlformats.org/officeDocument/2006/relationships/hyperlink" Target="http://www.tiscali.co.uk/reference/encyclopaedia/hutchinson/m0007061.html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LANT TISSUES-2</a:t>
            </a:r>
            <a:br>
              <a:rPr sz="3600"/>
            </a:b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Meristematic &amp; </a:t>
            </a:r>
            <a:r>
              <a:rPr b="1" lang="en-US" sz="3100" spc="-1" strike="noStrike">
                <a:solidFill>
                  <a:srgbClr val="b00000"/>
                </a:solidFill>
                <a:latin typeface="Comic Sans MS"/>
              </a:rPr>
              <a:t>Simple</a:t>
            </a:r>
            <a:r>
              <a:rPr b="1" lang="en-US" sz="2700" spc="-1" strike="noStrike">
                <a:solidFill>
                  <a:srgbClr val="b00000"/>
                </a:solidFill>
                <a:latin typeface="Comic Sans MS"/>
              </a:rPr>
              <a:t> Permanent Tissu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3337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a"/>
                </a:solidFill>
                <a:latin typeface="Comic Sans MS"/>
              </a:rPr>
              <a:t>A Presentation for Class IX b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a"/>
                </a:solidFill>
                <a:latin typeface="Comic Sans MS"/>
              </a:rPr>
              <a:t>Vandana Aggarw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a"/>
                </a:solidFill>
                <a:latin typeface="Comic Sans MS"/>
              </a:rPr>
              <a:t>Lecturer in Botany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a"/>
                </a:solidFill>
                <a:latin typeface="Comic Sans MS"/>
              </a:rPr>
              <a:t>Govt. College of Education 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a"/>
                </a:solidFill>
                <a:latin typeface="Comic Sans MS"/>
              </a:rPr>
              <a:t>Chandigarh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j0233959"/>
          <p:cNvPicPr/>
          <p:nvPr/>
        </p:nvPicPr>
        <p:blipFill>
          <a:blip r:embed="rId1"/>
          <a:stretch/>
        </p:blipFill>
        <p:spPr>
          <a:xfrm>
            <a:off x="2362320" y="1371600"/>
            <a:ext cx="396216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" descr=""/>
          <p:cNvPicPr/>
          <p:nvPr/>
        </p:nvPicPr>
        <p:blipFill>
          <a:blip r:embed="rId2"/>
          <a:stretch/>
        </p:blipFill>
        <p:spPr>
          <a:xfrm>
            <a:off x="0" y="1828800"/>
            <a:ext cx="20336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Intercalary Meristems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1142640"/>
            <a:ext cx="5562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se meristems become seperated from the apex due to the development of permanent tissue in betwee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re found in grasses and related plants that do not  increase in girth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esponsible for the regrowth of cut gras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7" descr="art0037.gif"/>
          <p:cNvPicPr/>
          <p:nvPr/>
        </p:nvPicPr>
        <p:blipFill>
          <a:blip r:embed="rId1"/>
          <a:stretch/>
        </p:blipFill>
        <p:spPr>
          <a:xfrm>
            <a:off x="5562720" y="1295280"/>
            <a:ext cx="35812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8088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en the Permanent Tissue is composed of single type of cells, it is called </a:t>
            </a:r>
            <a:r>
              <a:rPr b="1" lang="en-US" sz="2400" spc="-1" strike="noStrike">
                <a:solidFill>
                  <a:srgbClr val="b00000"/>
                </a:solidFill>
                <a:latin typeface="Comic Sans MS"/>
              </a:rPr>
              <a:t>Simple Permanent Tissu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The main function of this tissue is to provide protection and support to various plant parts. They are found throughout the pla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en the Permanent Tissue is composed of more than one type of cells, it is called </a:t>
            </a:r>
            <a:r>
              <a:rPr b="1" lang="en-US" sz="2400" spc="-1" strike="noStrike">
                <a:solidFill>
                  <a:srgbClr val="b00000"/>
                </a:solidFill>
                <a:latin typeface="Comic Sans MS"/>
              </a:rPr>
              <a:t>Complex Permanent Tissue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e main function of this tissue is conduction of water, minerals and food from one part of the plant to another. They are found at specific loc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33520" y="1143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cells of permanent tissues do not have the ability to divide. As a result, they form a permanent tissue. This process of taking up a permanent shape and size is called 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differentiation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-6480" y="5950080"/>
            <a:ext cx="2872080" cy="914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2664000" y="5950080"/>
            <a:ext cx="2865240" cy="914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5254560" y="5950080"/>
            <a:ext cx="2865600" cy="914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6278400" y="5950080"/>
            <a:ext cx="287208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40384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RENCHY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51920" y="2666880"/>
            <a:ext cx="89917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the most abundant tissue consisting of relatively unspecialized cells with thin cell walls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usually loosely packed with large intercellular spaces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living and are active in synthesis, transport or storage of metabolic products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pecialized Parenchy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leaves and stems parenchyma are the only photosynthetic cells. When filled with chloroplasts, they are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lorenchym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They carry out the process of photosynthe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6095880" y="1676520"/>
            <a:ext cx="1838520" cy="36766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5334120" y="53341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 leaf palisade cell containing large number of chloroplasts form Chlorenchym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Another types of Specialized Parenchym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1920" y="137160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pen, air-filled parenchyma tissue found in leaves of aquatic plants  is called aerenchy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roots or stems parenchyma cells can be found as storage cells filled with star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4800600" y="6180120"/>
            <a:ext cx="4343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big air filled tissu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in this image is aerenchym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6" descr="estuary.jpg"/>
          <p:cNvPicPr/>
          <p:nvPr/>
        </p:nvPicPr>
        <p:blipFill>
          <a:blip r:embed="rId1"/>
          <a:stretch/>
        </p:blipFill>
        <p:spPr>
          <a:xfrm>
            <a:off x="4800600" y="762120"/>
            <a:ext cx="3809880" cy="1752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leaf%20example2%20copy.JPG"/>
          <p:cNvPicPr/>
          <p:nvPr/>
        </p:nvPicPr>
        <p:blipFill>
          <a:blip r:embed="rId2"/>
          <a:stretch/>
        </p:blipFill>
        <p:spPr>
          <a:xfrm>
            <a:off x="4800600" y="2819520"/>
            <a:ext cx="4038480" cy="33652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9"/>
          <p:cNvSpPr/>
          <p:nvPr/>
        </p:nvSpPr>
        <p:spPr>
          <a:xfrm>
            <a:off x="6553080" y="4038480"/>
            <a:ext cx="15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erenchy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5529240" y="243828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quatic P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3886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lenchy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Content Placeholder 4" descr="CollenColeusTolBl160.jpg"/>
          <p:cNvPicPr/>
          <p:nvPr/>
        </p:nvPicPr>
        <p:blipFill>
          <a:blip r:embed="rId1"/>
          <a:stretch/>
        </p:blipFill>
        <p:spPr>
          <a:xfrm>
            <a:off x="4267080" y="0"/>
            <a:ext cx="3048120" cy="2971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0" y="327636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ells of collenchyma are alive at matur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ways occurs just beneath the epidermi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osed of relatively elongated cells with unevenly thickened cell wa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ery little intercellular space found between the cel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s a supporting and strengthening tissue found in nonwoody plants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5410080" y="3049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1228680" y="762120"/>
            <a:ext cx="302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clerenchy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0" y="27432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kes the plant hard and stif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ells of this tissue are de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 maturity the cell inside dies, and only the cell walls            rema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ell walls are thickened due to ligni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609480" y="671400"/>
            <a:ext cx="4496040" cy="53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2a0efa"/>
                </a:solidFill>
                <a:latin typeface="Comic Sans MS"/>
              </a:rPr>
              <a:t>Two types of sclerenchyma cells a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00000"/>
                </a:solidFill>
                <a:latin typeface="Comic Sans MS"/>
              </a:rPr>
              <a:t>Sclereids,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ccurring singly or in small clusters, are often found in the hard shells of fruits and in seed coats, bark, and the stem cortex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mic Sans MS"/>
              </a:rPr>
              <a:t>Fibres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frequently grouped in bundles, are elongated cells, often with pointed ends, associated with the vascular tissue 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xylem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phloem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 of the pla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main function of this tissue is to provide strength to the plant par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web17.1-4b.jpg"/>
          <p:cNvPicPr/>
          <p:nvPr/>
        </p:nvPicPr>
        <p:blipFill>
          <a:blip r:embed="rId3"/>
          <a:stretch/>
        </p:blipFill>
        <p:spPr>
          <a:xfrm>
            <a:off x="5562720" y="762120"/>
            <a:ext cx="2895480" cy="28191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2285640" y="152280"/>
            <a:ext cx="30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0efa"/>
                </a:solidFill>
                <a:latin typeface="Comic Sans MS"/>
              </a:rPr>
              <a:t>Types of Sclerenchy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5" descr="0360.JPG"/>
          <p:cNvPicPr/>
          <p:nvPr/>
        </p:nvPicPr>
        <p:blipFill>
          <a:blip r:embed="rId4"/>
          <a:stretch/>
        </p:blipFill>
        <p:spPr>
          <a:xfrm>
            <a:off x="5562720" y="3809880"/>
            <a:ext cx="2939760" cy="25146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6067800" y="648828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clerenchyma Fi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derm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The epidermis is a single layer of closely packed parenchyma cells. It both covers and protects the pla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Epidermis on stem and leaves prevents water loss by transpiration &amp; produces a waxy material called cutic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b5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b5228"/>
                </a:solidFill>
                <a:latin typeface="Comic Sans MS"/>
              </a:rPr>
              <a:t>Dead cork cells</a:t>
            </a:r>
            <a:r>
              <a:rPr b="1" lang="en-US" sz="2500" spc="-1" strike="noStrike">
                <a:solidFill>
                  <a:srgbClr val="006600"/>
                </a:solidFill>
                <a:latin typeface="Comic Sans MS"/>
              </a:rPr>
              <a:t> replace epidermis in woody stems &amp; roots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http://sps.k12.ar.us/massengale/tulip_leaf_epidermis.jpg"/>
          <p:cNvPicPr/>
          <p:nvPr/>
        </p:nvPicPr>
        <p:blipFill>
          <a:blip r:embed="rId1"/>
          <a:stretch/>
        </p:blipFill>
        <p:spPr>
          <a:xfrm>
            <a:off x="5943600" y="1752480"/>
            <a:ext cx="2971800" cy="3124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5334120" y="53341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Comic Sans MS"/>
              </a:rPr>
              <a:t>The transparent peel is the Epidermis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c00000"/>
                </a:solidFill>
                <a:latin typeface="Comic Sans MS"/>
              </a:rPr>
              <a:t>the Lea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9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4950785.gif?daisies_waving_sm_wm"/>
          <p:cNvPicPr/>
          <p:nvPr/>
        </p:nvPicPr>
        <p:blipFill>
          <a:blip r:embed="rId2"/>
          <a:stretch/>
        </p:blipFill>
        <p:spPr>
          <a:xfrm>
            <a:off x="8153280" y="6553080"/>
            <a:ext cx="857520" cy="857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4950785.gif?daisies_waving_sm_wm"/>
          <p:cNvPicPr/>
          <p:nvPr/>
        </p:nvPicPr>
        <p:blipFill>
          <a:blip r:embed="rId3"/>
          <a:stretch/>
        </p:blipFill>
        <p:spPr>
          <a:xfrm>
            <a:off x="7391520" y="655308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4950785.gif?daisies_waving_sm_wm"/>
          <p:cNvPicPr/>
          <p:nvPr/>
        </p:nvPicPr>
        <p:blipFill>
          <a:blip r:embed="rId4"/>
          <a:stretch/>
        </p:blipFill>
        <p:spPr>
          <a:xfrm>
            <a:off x="6553080" y="6553080"/>
            <a:ext cx="857520" cy="857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4950785.gif?daisies_waving_sm_wm"/>
          <p:cNvPicPr/>
          <p:nvPr/>
        </p:nvPicPr>
        <p:blipFill>
          <a:blip r:embed="rId5"/>
          <a:stretch/>
        </p:blipFill>
        <p:spPr>
          <a:xfrm>
            <a:off x="5715000" y="655308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4950785.gif?daisies_waving_sm_wm"/>
          <p:cNvPicPr/>
          <p:nvPr/>
        </p:nvPicPr>
        <p:blipFill>
          <a:blip r:embed="rId6"/>
          <a:stretch/>
        </p:blipFill>
        <p:spPr>
          <a:xfrm>
            <a:off x="4876920" y="655308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4950785.gif?daisies_waving_sm_wm"/>
          <p:cNvPicPr/>
          <p:nvPr/>
        </p:nvPicPr>
        <p:blipFill>
          <a:blip r:embed="rId7"/>
          <a:stretch/>
        </p:blipFill>
        <p:spPr>
          <a:xfrm>
            <a:off x="4114800" y="655308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4950785.gif?daisies_waving_sm_wm"/>
          <p:cNvPicPr/>
          <p:nvPr/>
        </p:nvPicPr>
        <p:blipFill>
          <a:blip r:embed="rId8"/>
          <a:stretch/>
        </p:blipFill>
        <p:spPr>
          <a:xfrm>
            <a:off x="838080" y="6553080"/>
            <a:ext cx="857520" cy="857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4950785.gif?daisies_waving_sm_wm"/>
          <p:cNvPicPr/>
          <p:nvPr/>
        </p:nvPicPr>
        <p:blipFill>
          <a:blip r:embed="rId9"/>
          <a:stretch/>
        </p:blipFill>
        <p:spPr>
          <a:xfrm>
            <a:off x="1676520" y="655308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4950785.gif?daisies_waving_sm_wm"/>
          <p:cNvPicPr/>
          <p:nvPr/>
        </p:nvPicPr>
        <p:blipFill>
          <a:blip r:embed="rId10"/>
          <a:stretch/>
        </p:blipFill>
        <p:spPr>
          <a:xfrm>
            <a:off x="2514600" y="655308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4950785.gif?daisies_waving_sm_wm"/>
          <p:cNvPicPr/>
          <p:nvPr/>
        </p:nvPicPr>
        <p:blipFill>
          <a:blip r:embed="rId11"/>
          <a:stretch/>
        </p:blipFill>
        <p:spPr>
          <a:xfrm>
            <a:off x="3276720" y="655308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4950785.gif?daisies_waving_sm_wm"/>
          <p:cNvPicPr/>
          <p:nvPr/>
        </p:nvPicPr>
        <p:blipFill>
          <a:blip r:embed="rId12"/>
          <a:stretch/>
        </p:blipFill>
        <p:spPr>
          <a:xfrm>
            <a:off x="0" y="6553080"/>
            <a:ext cx="857160" cy="8575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6"/>
          <p:cNvSpPr/>
          <p:nvPr/>
        </p:nvSpPr>
        <p:spPr>
          <a:xfrm>
            <a:off x="609480" y="6858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wth in plants includes two stag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rst the production of new cells and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ly the expansion of these cells via uptake of water by the vacuo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ell division occurs solely in </a:t>
            </a:r>
            <a:r>
              <a:rPr b="1" lang="en-US" sz="2400" spc="-1" strike="noStrike">
                <a:solidFill>
                  <a:srgbClr val="2a0efa"/>
                </a:solidFill>
                <a:latin typeface="Comic Sans MS"/>
              </a:rPr>
              <a:t>meristematic regi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while expansion may occur anyw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us in a single plant there are zones of young dividing cells, maturing cells, and mature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457200" y="3435120"/>
            <a:ext cx="807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cialized epidermal cells have special modifications to perform special functions, e.g.,</a:t>
            </a:r>
            <a:r>
              <a:rPr b="1" lang="en-US" sz="2400" spc="-1" strike="noStrike">
                <a:solidFill>
                  <a:srgbClr val="7b5228"/>
                </a:solidFill>
                <a:latin typeface="Comic Sans MS"/>
              </a:rPr>
              <a:t> root hairs and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7b5228"/>
                </a:solidFill>
                <a:latin typeface="Comic Sans MS"/>
              </a:rPr>
              <a:t>stomat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http://sps.k12.ar.us/massengale/roothairs.GIF"/>
          <p:cNvPicPr/>
          <p:nvPr/>
        </p:nvPicPr>
        <p:blipFill>
          <a:blip r:embed="rId1"/>
          <a:stretch/>
        </p:blipFill>
        <p:spPr>
          <a:xfrm>
            <a:off x="1295280" y="762120"/>
            <a:ext cx="2162160" cy="13046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1800" y="555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http://sps.k12.ar.us/massengale/stomata.jpg"/>
          <p:cNvPicPr/>
          <p:nvPr/>
        </p:nvPicPr>
        <p:blipFill>
          <a:blip r:embed="rId2"/>
          <a:stretch/>
        </p:blipFill>
        <p:spPr>
          <a:xfrm>
            <a:off x="3886200" y="838080"/>
            <a:ext cx="2352600" cy="14288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9"/>
          <p:cNvSpPr/>
          <p:nvPr/>
        </p:nvSpPr>
        <p:spPr>
          <a:xfrm>
            <a:off x="457200" y="2133720"/>
            <a:ext cx="518148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7" descr="guardcellssm.jpg"/>
          <p:cNvPicPr/>
          <p:nvPr/>
        </p:nvPicPr>
        <p:blipFill>
          <a:blip r:embed="rId3"/>
          <a:stretch/>
        </p:blipFill>
        <p:spPr>
          <a:xfrm>
            <a:off x="6629400" y="685800"/>
            <a:ext cx="1947960" cy="19209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8"/>
          <p:cNvSpPr/>
          <p:nvPr/>
        </p:nvSpPr>
        <p:spPr>
          <a:xfrm>
            <a:off x="3699000" y="2362320"/>
            <a:ext cx="26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omata on Epiderm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526040" y="22860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oot H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2370600" y="53352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t us summarize…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0" y="1251720"/>
            <a:ext cx="8915400" cy="65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 plants, the formation of new cells, tissues and organs is restricted almost entirely to regions known as meristem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here are 3 main types of meristematic tissue in vascular seed plants   ---- apical, intercalary, &amp; lateral meristem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ateral meristems produce outward growth in plants or secondary growth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ateral meristems are called cambium (cambia, plural). Vascular cambium makes wood &amp; vascular tissues and cork cambium makes cork &amp; bark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ome monocots, such as grasses &amp; bamboo, have intercalary meristems located above the bases of leaves and stems  allowing them to regrow quickly after being cut dow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A </a:t>
            </a:r>
            <a:r>
              <a:rPr b="1" lang="en-US" sz="1600" spc="-1" strike="noStrike">
                <a:solidFill>
                  <a:srgbClr val="7b5228"/>
                </a:solidFill>
                <a:latin typeface="Comic Sans MS"/>
              </a:rPr>
              <a:t>simple tissue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is composed of only one type of cell; a </a:t>
            </a:r>
            <a:r>
              <a:rPr b="1" lang="en-US" sz="1600" spc="-1" strike="noStrike">
                <a:solidFill>
                  <a:srgbClr val="7b5228"/>
                </a:solidFill>
                <a:latin typeface="Comic Sans MS"/>
              </a:rPr>
              <a:t>complex tissue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is composed of more than one cell type.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Plants are composed of </a:t>
            </a:r>
            <a:r>
              <a:rPr b="1" lang="en-US" sz="1600" spc="-1" strike="noStrike">
                <a:solidFill>
                  <a:srgbClr val="7b5228"/>
                </a:solidFill>
                <a:latin typeface="Comic Sans MS"/>
              </a:rPr>
              <a:t>specialized cells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and </a:t>
            </a:r>
            <a:r>
              <a:rPr b="1" lang="en-US" sz="1600" spc="-1" strike="noStrike">
                <a:solidFill>
                  <a:srgbClr val="7b5228"/>
                </a:solidFill>
                <a:latin typeface="Comic Sans MS"/>
              </a:rPr>
              <a:t>tissu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Plants have 3 basic types of cells --- </a:t>
            </a:r>
            <a:r>
              <a:rPr b="1" lang="en-US" sz="1600" spc="-1" strike="noStrike">
                <a:solidFill>
                  <a:srgbClr val="7b5228"/>
                </a:solidFill>
                <a:latin typeface="Comic Sans MS"/>
              </a:rPr>
              <a:t>parenchyma, collenchyma, &amp; sclerenchyma.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Parenchyma cells are the </a:t>
            </a:r>
            <a:r>
              <a:rPr b="1" lang="en-US" sz="1600" spc="-1" strike="noStrike">
                <a:solidFill>
                  <a:srgbClr val="7b5228"/>
                </a:solidFill>
                <a:latin typeface="Comic Sans MS"/>
              </a:rPr>
              <a:t>most abundant &amp; least specialized.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Parenchyma cells </a:t>
            </a:r>
            <a:r>
              <a:rPr b="1" lang="en-US" sz="1600" spc="-1" strike="noStrike">
                <a:solidFill>
                  <a:srgbClr val="7b5228"/>
                </a:solidFill>
                <a:latin typeface="Comic Sans MS"/>
              </a:rPr>
              <a:t>can specialize for various functions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( buoyancy storage, photosynthesis, etc.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e.g., </a:t>
            </a:r>
            <a:r>
              <a:rPr b="1" lang="en-US" sz="1600" spc="-1" strike="noStrike">
                <a:solidFill>
                  <a:srgbClr val="580000"/>
                </a:solidFill>
                <a:latin typeface="Comic Sans MS"/>
              </a:rPr>
              <a:t>Chlorenchyma and Aerenchym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7b52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b5228"/>
                </a:solidFill>
                <a:latin typeface="Comic Sans MS"/>
              </a:rPr>
              <a:t>Collenchyma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cells are </a:t>
            </a:r>
            <a:r>
              <a:rPr b="1" lang="en-US" sz="1600" spc="-1" strike="noStrike">
                <a:solidFill>
                  <a:srgbClr val="7b5228"/>
                </a:solidFill>
                <a:latin typeface="Comic Sans MS"/>
              </a:rPr>
              <a:t>irregular in shape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with </a:t>
            </a:r>
            <a:r>
              <a:rPr b="1" lang="en-US" sz="1600" spc="-1" strike="noStrike">
                <a:solidFill>
                  <a:srgbClr val="7b5228"/>
                </a:solidFill>
                <a:latin typeface="Comic Sans MS"/>
              </a:rPr>
              <a:t>thicker cell walls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&amp; </a:t>
            </a:r>
            <a:r>
              <a:rPr b="1" lang="en-US" sz="1600" spc="-1" strike="noStrike">
                <a:solidFill>
                  <a:srgbClr val="7b5228"/>
                </a:solidFill>
                <a:latin typeface="Comic Sans MS"/>
              </a:rPr>
              <a:t>support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the growing parts of plan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7b5228"/>
                </a:solidFill>
                <a:latin typeface="Comic Sans MS"/>
              </a:rPr>
              <a:t>Sclerenchyma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cells </a:t>
            </a:r>
            <a:r>
              <a:rPr b="1" lang="en-US" sz="1600" spc="-1" strike="noStrike">
                <a:solidFill>
                  <a:srgbClr val="7b5228"/>
                </a:solidFill>
                <a:latin typeface="Comic Sans MS"/>
              </a:rPr>
              <a:t>support non-growing parts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of plants because they have </a:t>
            </a:r>
            <a:r>
              <a:rPr b="1" lang="en-US" sz="1600" spc="-1" strike="noStrike">
                <a:solidFill>
                  <a:srgbClr val="7b5228"/>
                </a:solidFill>
                <a:latin typeface="Comic Sans MS"/>
              </a:rPr>
              <a:t>thick, rigid, non-stretchable cell wall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.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Two types of sclerenchyma cells are </a:t>
            </a:r>
            <a:r>
              <a:rPr b="1" lang="en-US" sz="1600" spc="-1" strike="noStrike">
                <a:solidFill>
                  <a:srgbClr val="7b5228"/>
                </a:solidFill>
                <a:latin typeface="Comic Sans MS"/>
              </a:rPr>
              <a:t>fibers &amp; sclereids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58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 us answer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609480" y="1371600"/>
            <a:ext cx="80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. Which of the following often die at maturity leaving empty, box-like structures 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914400" y="205740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. Parenchyma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. Collenchym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. Sclerenchym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57200" y="335268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. Which of the following  cell types has a thick and lignified cell wal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990720" y="3809880"/>
            <a:ext cx="457200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. Parenchym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. Collenchym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. Sclerenchym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1981080" y="2286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Aerenchyma is found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2021040" y="3124080"/>
            <a:ext cx="300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. Aquatic pl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. Land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3"/>
          <p:cNvSpPr/>
          <p:nvPr/>
        </p:nvSpPr>
        <p:spPr>
          <a:xfrm>
            <a:off x="457200" y="45720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. Ground tissue of the leaf that uses the energy in sunlight to synthesize sugars, is calle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404640" y="1219320"/>
            <a:ext cx="192132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piderm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rte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.Mesophyl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609480" y="2514600"/>
            <a:ext cx="8534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. The meristems in grasses that are  located above the bases of leaves and stems  allowing them to regrow quickly after being cut down , ar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762120" y="3200400"/>
            <a:ext cx="45720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. pic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. Late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. Intercal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781920" y="4495680"/>
            <a:ext cx="49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.Increase in the girth of plant body, is the function o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838080" y="5105520"/>
            <a:ext cx="45720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pical Meristem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. Lateral Meristem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. Intercalary Meristem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21"/>
          <p:cNvSpPr/>
          <p:nvPr/>
        </p:nvSpPr>
        <p:spPr>
          <a:xfrm>
            <a:off x="995400" y="380880"/>
            <a:ext cx="17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22"/>
          <p:cNvSpPr/>
          <p:nvPr/>
        </p:nvSpPr>
        <p:spPr>
          <a:xfrm>
            <a:off x="914400" y="990720"/>
            <a:ext cx="80773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hcs.ohio-state.edu/hcs300/gif/tsstem.g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botany.uwc.ac.za/sci_ed/grade10/anatomy/images/dicotstemcs.g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55a.net/firas/photo/arabic/feras1/xylem1_resize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sps.k12.ar.us/massengale/images/transpul11.g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mhhe.com/biosci/pae/botany/histology/html/vasctis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discover.edventures.com/images/termlib/x/xylem/support.g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sps.k12.ar.us/massengale/plant_structure_bi1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ucmp.berkeley.edu/IB181/VPL/Ana/AnaP/Ana6l.jpe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botany.uwc.ac.za/SCI_ED/grade10/plant_tissues/images/xylem2.g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uic.edu/classes/bios/bios100/f06pm/36_A01.sw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is.asu.edu/plb108/course/processes/transport/media/pathwater.sw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botany.uwc.ac.za/SCI_ED/grade10/plant_tissues/phloem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is.asu.edu/plb108/course/processes/transport/page13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pearsoned.ca/school/science11/biology11/sugartransport.sw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agen.ufl.edu/~chyn/age2062/lect/lect_15/22_2DT.G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is.asu.edu/plb108/course/processes/transport/media/water.sw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plantphys.info/Plant_physiology/images/anatomy.g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6248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ristematic T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1142640"/>
            <a:ext cx="5486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200" spc="-1" strike="noStrike">
                <a:solidFill>
                  <a:srgbClr val="2a0efa"/>
                </a:solidFill>
                <a:latin typeface="Comic Sans MS"/>
              </a:rPr>
              <a:t>Meristematic tissues are cells or group of cells that have the ability to divide.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se tissues in a plant consist of small, densely packed cells that can keep dividing to form new cell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y give rise to permanent tissues and have the following characteristics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cells are small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cells walls are thin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ells have large nuclei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vacuoles are absent or very small, an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re are no intercellular spac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an0002r.gif"/>
          <p:cNvPicPr/>
          <p:nvPr/>
        </p:nvPicPr>
        <p:blipFill>
          <a:blip r:embed="rId1"/>
          <a:stretch/>
        </p:blipFill>
        <p:spPr>
          <a:xfrm>
            <a:off x="6172200" y="1219320"/>
            <a:ext cx="2666880" cy="380988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6095880" y="52578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ristematic Cells   during mitotic div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990720" y="2819520"/>
            <a:ext cx="77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are three types of meristematic tissu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ical Merist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teral Merist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ercalary Merist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533520" y="5103720"/>
            <a:ext cx="838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2098080" y="1447920"/>
            <a:ext cx="54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s of Meristematic T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flowers11.gif"/>
          <p:cNvPicPr/>
          <p:nvPr/>
        </p:nvPicPr>
        <p:blipFill>
          <a:blip r:embed="rId1"/>
          <a:stretch/>
        </p:blipFill>
        <p:spPr>
          <a:xfrm>
            <a:off x="-152280" y="380880"/>
            <a:ext cx="200952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990720" y="2819520"/>
            <a:ext cx="77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are three types of meristematic tissu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ical Merist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teral Merist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ercalary Merist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533520" y="5103720"/>
            <a:ext cx="838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2098080" y="1447920"/>
            <a:ext cx="54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s of Meristematic T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flowers11.gif"/>
          <p:cNvPicPr/>
          <p:nvPr/>
        </p:nvPicPr>
        <p:blipFill>
          <a:blip r:embed="rId1"/>
          <a:stretch/>
        </p:blipFill>
        <p:spPr>
          <a:xfrm>
            <a:off x="-152280" y="380880"/>
            <a:ext cx="200952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51814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pical Meri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121896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ree types of primary meristem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600" spc="-1" strike="noStrike">
                <a:solidFill>
                  <a:srgbClr val="b00000"/>
                </a:solidFill>
                <a:latin typeface="Comic Sans MS"/>
              </a:rPr>
              <a:t>The Protoderm,</a:t>
            </a:r>
            <a:r>
              <a:rPr b="0" lang="en-US" sz="2600" spc="-1" strike="noStrike">
                <a:solidFill>
                  <a:srgbClr val="b00000"/>
                </a:solidFill>
                <a:latin typeface="Calibri"/>
              </a:rPr>
              <a:t>which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s the outer dermal layer of tissues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00000"/>
                </a:solidFill>
                <a:latin typeface="Comic Sans MS"/>
              </a:rPr>
              <a:t>     </a:t>
            </a:r>
            <a:r>
              <a:rPr b="0" lang="en-US" sz="2600" spc="-1" strike="noStrike">
                <a:solidFill>
                  <a:srgbClr val="b00000"/>
                </a:solidFill>
                <a:latin typeface="Comic Sans MS"/>
              </a:rPr>
              <a:t>The Ground meristem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hich forms the cortical cells an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,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00000"/>
                </a:solidFill>
                <a:latin typeface="Comic Sans MS"/>
              </a:rPr>
              <a:t>     </a:t>
            </a:r>
            <a:r>
              <a:rPr b="0" lang="en-US" sz="2600" spc="-1" strike="noStrike">
                <a:solidFill>
                  <a:srgbClr val="b00000"/>
                </a:solidFill>
                <a:latin typeface="Comic Sans MS"/>
              </a:rPr>
              <a:t>The Procambium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ich forms the vascular tissu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00000"/>
                </a:solidFill>
                <a:latin typeface="Comic Sans MS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 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se primary meristems will produce the cells that will form the primary tissu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952880" y="1295280"/>
            <a:ext cx="4038840" cy="4800600"/>
          </a:xfrm>
          <a:prstGeom prst="rect">
            <a:avLst/>
          </a:prstGeom>
          <a:ln w="0">
            <a:noFill/>
          </a:ln>
        </p:spPr>
      </p:pic>
      <p:sp>
        <p:nvSpPr>
          <p:cNvPr id="80" name="TextBox 8"/>
          <p:cNvSpPr/>
          <p:nvPr/>
        </p:nvSpPr>
        <p:spPr>
          <a:xfrm>
            <a:off x="5221080" y="6324480"/>
            <a:ext cx="34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pical Meristem at Shoot ti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apical root meristem and three primary meristems which are produced by the apical meristem itself.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4" descr="fig1-14.jpg"/>
          <p:cNvPicPr/>
          <p:nvPr/>
        </p:nvPicPr>
        <p:blipFill>
          <a:blip r:embed="rId1"/>
          <a:stretch/>
        </p:blipFill>
        <p:spPr>
          <a:xfrm>
            <a:off x="2286000" y="167652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1066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teral Meristem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count for secondary growth in plants which is  generally horizont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nd beneath the bark of trees as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cork cambium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in the vascular bundles of dicot roots and stem as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cambium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b050"/>
                </a:solidFill>
                <a:latin typeface="Comic Sans MS"/>
              </a:rPr>
              <a:t>Plants without lateral meristems have only primary, not secondary growth and are called herbaceous plants</a:t>
            </a: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5084121.gif?strawberries_trs_sm_nwm_me"/>
          <p:cNvPicPr/>
          <p:nvPr/>
        </p:nvPicPr>
        <p:blipFill>
          <a:blip r:embed="rId2"/>
          <a:stretch/>
        </p:blipFill>
        <p:spPr>
          <a:xfrm>
            <a:off x="835200" y="-6480"/>
            <a:ext cx="865080" cy="871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5084121.gif?strawberries_trs_sm_nwm_me"/>
          <p:cNvPicPr/>
          <p:nvPr/>
        </p:nvPicPr>
        <p:blipFill>
          <a:blip r:embed="rId3"/>
          <a:stretch/>
        </p:blipFill>
        <p:spPr>
          <a:xfrm>
            <a:off x="6699240" y="5992920"/>
            <a:ext cx="871560" cy="871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5084121.gif?strawberries_trs_sm_nwm_me"/>
          <p:cNvPicPr/>
          <p:nvPr/>
        </p:nvPicPr>
        <p:blipFill>
          <a:blip r:embed="rId4"/>
          <a:stretch/>
        </p:blipFill>
        <p:spPr>
          <a:xfrm>
            <a:off x="835200" y="5992920"/>
            <a:ext cx="865080" cy="871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5084121.gif?strawberries_trs_sm_nwm_me"/>
          <p:cNvPicPr/>
          <p:nvPr/>
        </p:nvPicPr>
        <p:blipFill>
          <a:blip r:embed="rId5"/>
          <a:stretch/>
        </p:blipFill>
        <p:spPr>
          <a:xfrm>
            <a:off x="2511360" y="5992920"/>
            <a:ext cx="865080" cy="871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5084121.gif?strawberries_trs_sm_nwm_me"/>
          <p:cNvPicPr/>
          <p:nvPr/>
        </p:nvPicPr>
        <p:blipFill>
          <a:blip r:embed="rId6"/>
          <a:stretch/>
        </p:blipFill>
        <p:spPr>
          <a:xfrm>
            <a:off x="4187880" y="5992920"/>
            <a:ext cx="865080" cy="871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5084121.gif?strawberries_trs_sm_nwm_me"/>
          <p:cNvPicPr/>
          <p:nvPr/>
        </p:nvPicPr>
        <p:blipFill>
          <a:blip r:embed="rId7"/>
          <a:stretch/>
        </p:blipFill>
        <p:spPr>
          <a:xfrm>
            <a:off x="5864400" y="5992920"/>
            <a:ext cx="865080" cy="871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5084121.gif?strawberries_trs_sm_nwm_me"/>
          <p:cNvPicPr/>
          <p:nvPr/>
        </p:nvPicPr>
        <p:blipFill>
          <a:blip r:embed="rId8"/>
          <a:stretch/>
        </p:blipFill>
        <p:spPr>
          <a:xfrm>
            <a:off x="7461360" y="5992920"/>
            <a:ext cx="871560" cy="871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5084121.gif?strawberries_trs_sm_nwm_me"/>
          <p:cNvPicPr/>
          <p:nvPr/>
        </p:nvPicPr>
        <p:blipFill>
          <a:blip r:embed="rId9"/>
          <a:stretch/>
        </p:blipFill>
        <p:spPr>
          <a:xfrm>
            <a:off x="5022720" y="5992920"/>
            <a:ext cx="871560" cy="871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5084121.gif?strawberries_trs_sm_nwm_me"/>
          <p:cNvPicPr/>
          <p:nvPr/>
        </p:nvPicPr>
        <p:blipFill>
          <a:blip r:embed="rId10"/>
          <a:stretch/>
        </p:blipFill>
        <p:spPr>
          <a:xfrm>
            <a:off x="3346560" y="5992920"/>
            <a:ext cx="871560" cy="871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5084121.gif?strawberries_trs_sm_nwm_me"/>
          <p:cNvPicPr/>
          <p:nvPr/>
        </p:nvPicPr>
        <p:blipFill>
          <a:blip r:embed="rId11"/>
          <a:stretch/>
        </p:blipFill>
        <p:spPr>
          <a:xfrm>
            <a:off x="1670040" y="5992920"/>
            <a:ext cx="871560" cy="871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5084121.gif?strawberries_trs_sm_nwm_me"/>
          <p:cNvPicPr/>
          <p:nvPr/>
        </p:nvPicPr>
        <p:blipFill>
          <a:blip r:embed="rId12"/>
          <a:stretch/>
        </p:blipFill>
        <p:spPr>
          <a:xfrm>
            <a:off x="8278920" y="5992920"/>
            <a:ext cx="871560" cy="871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5084121.gif?strawberries_trs_sm_nwm_me"/>
          <p:cNvPicPr/>
          <p:nvPr/>
        </p:nvPicPr>
        <p:blipFill>
          <a:blip r:embed="rId13"/>
          <a:stretch/>
        </p:blipFill>
        <p:spPr>
          <a:xfrm>
            <a:off x="-6480" y="5992920"/>
            <a:ext cx="871560" cy="871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7" descr="5084121.gif?strawberries_trs_sm_nwm_me"/>
          <p:cNvPicPr/>
          <p:nvPr/>
        </p:nvPicPr>
        <p:blipFill>
          <a:blip r:embed="rId14"/>
          <a:stretch/>
        </p:blipFill>
        <p:spPr>
          <a:xfrm>
            <a:off x="1670040" y="-6480"/>
            <a:ext cx="871560" cy="871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5084121.gif?strawberries_trs_sm_nwm_me"/>
          <p:cNvPicPr/>
          <p:nvPr/>
        </p:nvPicPr>
        <p:blipFill>
          <a:blip r:embed="rId15"/>
          <a:stretch/>
        </p:blipFill>
        <p:spPr>
          <a:xfrm>
            <a:off x="3273480" y="-6480"/>
            <a:ext cx="865080" cy="871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5084121.gif?strawberries_trs_sm_nwm_me"/>
          <p:cNvPicPr/>
          <p:nvPr/>
        </p:nvPicPr>
        <p:blipFill>
          <a:blip r:embed="rId16"/>
          <a:stretch/>
        </p:blipFill>
        <p:spPr>
          <a:xfrm>
            <a:off x="4950000" y="-6480"/>
            <a:ext cx="865080" cy="871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5084121.gif?strawberries_trs_sm_nwm_me"/>
          <p:cNvPicPr/>
          <p:nvPr/>
        </p:nvPicPr>
        <p:blipFill>
          <a:blip r:embed="rId17"/>
          <a:stretch/>
        </p:blipFill>
        <p:spPr>
          <a:xfrm>
            <a:off x="6626160" y="-6480"/>
            <a:ext cx="865080" cy="871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5084121.gif?strawberries_trs_sm_nwm_me"/>
          <p:cNvPicPr/>
          <p:nvPr/>
        </p:nvPicPr>
        <p:blipFill>
          <a:blip r:embed="rId18"/>
          <a:stretch/>
        </p:blipFill>
        <p:spPr>
          <a:xfrm>
            <a:off x="8278920" y="-6480"/>
            <a:ext cx="871560" cy="871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5084121.gif?strawberries_trs_sm_nwm_me"/>
          <p:cNvPicPr/>
          <p:nvPr/>
        </p:nvPicPr>
        <p:blipFill>
          <a:blip r:embed="rId19"/>
          <a:stretch/>
        </p:blipFill>
        <p:spPr>
          <a:xfrm>
            <a:off x="-6480" y="-6480"/>
            <a:ext cx="871560" cy="871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3" descr="5084121.gif?strawberries_trs_sm_nwm_me"/>
          <p:cNvPicPr/>
          <p:nvPr/>
        </p:nvPicPr>
        <p:blipFill>
          <a:blip r:embed="rId20"/>
          <a:stretch/>
        </p:blipFill>
        <p:spPr>
          <a:xfrm>
            <a:off x="2432160" y="-6480"/>
            <a:ext cx="871560" cy="871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4" descr="5084121.gif?strawberries_trs_sm_nwm_me"/>
          <p:cNvPicPr/>
          <p:nvPr/>
        </p:nvPicPr>
        <p:blipFill>
          <a:blip r:embed="rId21"/>
          <a:stretch/>
        </p:blipFill>
        <p:spPr>
          <a:xfrm>
            <a:off x="4108320" y="-6480"/>
            <a:ext cx="871560" cy="87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5" descr="5084121.gif?strawberries_trs_sm_nwm_me"/>
          <p:cNvPicPr/>
          <p:nvPr/>
        </p:nvPicPr>
        <p:blipFill>
          <a:blip r:embed="rId22"/>
          <a:stretch/>
        </p:blipFill>
        <p:spPr>
          <a:xfrm>
            <a:off x="5784840" y="-6480"/>
            <a:ext cx="871560" cy="871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6" descr="5084121.gif?strawberries_trs_sm_nwm_me"/>
          <p:cNvPicPr/>
          <p:nvPr/>
        </p:nvPicPr>
        <p:blipFill>
          <a:blip r:embed="rId23"/>
          <a:stretch/>
        </p:blipFill>
        <p:spPr>
          <a:xfrm>
            <a:off x="7461360" y="-6480"/>
            <a:ext cx="871560" cy="8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meristem"/>
          <p:cNvPicPr/>
          <p:nvPr/>
        </p:nvPicPr>
        <p:blipFill>
          <a:blip r:embed="rId1"/>
          <a:stretch/>
        </p:blipFill>
        <p:spPr>
          <a:xfrm>
            <a:off x="1600200" y="762120"/>
            <a:ext cx="5562720" cy="60958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2302920" y="228600"/>
            <a:ext cx="40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pical and Lateral Meristem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21:05:39Z</dcterms:created>
  <dc:creator>Shitanshu Aggarwal</dc:creator>
  <dc:description/>
  <dc:language>en-US</dc:language>
  <cp:lastModifiedBy>Vandana</cp:lastModifiedBy>
  <dcterms:modified xsi:type="dcterms:W3CDTF">2008-11-16T03:01:07Z</dcterms:modified>
  <cp:revision>22</cp:revision>
  <dc:subject/>
  <dc:title>PLANT TISSUES-1 Simple Permanent Tissues &amp; Epidermis</dc:title>
</cp:coreProperties>
</file>