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AFE3-FD27-452F-97CE-E85CF3EF3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aasta.ac.za/biosciences/images/cellplant.jpg   http://www.botany.uwc.ac.za/SCI_ED/grade10/cells/vacuole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aasta.ac.za/biosciences/cells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2C9C-F6DF-400D-9169-41A6F1B32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rary.thinkquest.org/C004535/vacuol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791-AFDF-4CE5-A178-54C80E192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D40-24F2-4395-88C9-0CDAE4D79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uwc.ac.za/SCI_ED/grade10/cells/difference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146-9ED3-4E85-ADF7-3F528DE82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vdsb.on.ca/westmin/science/sbi3a1/Cells/cell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2B8-604E-42B3-87EF-4CC56F323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uwc.ac.za/SCI_ED/grade10/cells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2F0-57E7-4C40-BB76-A1AF7D6BF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uwc.ac.za/SCI_ED/grade10/cells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7F82-B5D2-40DB-BCF5-2C1439E0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uwc.ac.za/SCI_ED/grade10/cells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C71A-65DC-4E0B-A19A-9AADF6921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otany.uwc.ac.za/SCI_ED/grade10/cells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0044-ACD8-4331-9F44-6B7683FC4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act.wisc.edu/Microtextbook/images/book_4/chapter_2/2-74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2A95-48E7-4B06-AF0E-591AF8D56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8EB-71F6-4251-883B-5843EF9BB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vdsb.on.ca/westmin/science/sbi3a1/Cells/chloro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708F-7010-4E01-87FC-BF3F6A13A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hools.utah.gov/curr/science/sciber00/7th/cells/sciber/vacuol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CB7-549C-4DE4-A665-7D4D187C6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D9E-A158-4FA7-B976-048E2035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4B4-3134-4A9D-9846-9FCB865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519-3426-4D18-ABC3-44BEC53E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0B3-4F4B-4312-BCB7-63EE10DB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877-9DA1-4B0D-9C6A-AFDB6B59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1C2-0253-4227-A3EB-55A442A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2C4-D4B7-417F-B766-6D1AB86A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3D-BB5F-4F25-9138-7C8B983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F60-918B-4D85-98FF-CC56AF1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F6E-FFFC-4A85-A3B3-4FDE601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6AB-E36A-49AB-B51D-26AE61F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AC7-9E5F-488A-BB27-17E124B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B71A-B672-4E2C-92CE-3609C4C53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655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4"/>
          <a:stretch/>
        </p:blipFill>
        <p:spPr>
          <a:xfrm>
            <a:off x="228600" y="0"/>
            <a:ext cx="861048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40f33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240f33"/>
                </a:solidFill>
                <a:latin typeface="Comic Sans MS"/>
              </a:rPr>
              <a:t>ANIMAL CELL VS. PLANT C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stk-fgr6.gif"/>
          <p:cNvPicPr/>
          <p:nvPr/>
        </p:nvPicPr>
        <p:blipFill>
          <a:blip r:embed="rId5"/>
          <a:stretch/>
        </p:blipFill>
        <p:spPr>
          <a:xfrm>
            <a:off x="990720" y="457200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228600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Presentation for Class IX 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ndana Aggarw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cturer in Botan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ovt. College of Education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digar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655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233959"/>
          <p:cNvPicPr/>
          <p:nvPr/>
        </p:nvPicPr>
        <p:blipFill>
          <a:blip r:embed="rId7"/>
          <a:stretch/>
        </p:blipFill>
        <p:spPr>
          <a:xfrm>
            <a:off x="3124080" y="2209680"/>
            <a:ext cx="20574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-1526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ucture of Vacuo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35812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vacuole is an empty space in the cytoplasm, surrounded by a cytoplasmic membrane, the </a:t>
            </a:r>
            <a:r>
              <a:rPr b="1" lang="en-US" sz="2000" spc="-1" strike="noStrike">
                <a:solidFill>
                  <a:srgbClr val="920000"/>
                </a:solidFill>
                <a:latin typeface="Comic Sans MS"/>
              </a:rPr>
              <a:t>tonoplast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nd filled with a watery fluid called the </a:t>
            </a:r>
            <a:r>
              <a:rPr b="1" lang="en-US" sz="2000" spc="-1" strike="noStrike">
                <a:solidFill>
                  <a:srgbClr val="920000"/>
                </a:solidFill>
                <a:latin typeface="Comic Sans MS"/>
              </a:rPr>
              <a:t>cell sa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animal cells, there are normally several small vacuoles, which are usually called ves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plant cells vacuoles may occupy 80% or more of the volume of the cell. The cytoplasm and nucleus are compressed against the cell wa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cellplant.jpg"/>
          <p:cNvPicPr/>
          <p:nvPr/>
        </p:nvPicPr>
        <p:blipFill>
          <a:blip r:embed="rId2"/>
          <a:stretch/>
        </p:blipFill>
        <p:spPr>
          <a:xfrm>
            <a:off x="2514600" y="457200"/>
            <a:ext cx="403848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609480" y="1523880"/>
            <a:ext cx="5029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for sto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y  role in intracellular digestion and release of cell was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form a variety of functions ranging from protection of a plant to endocyt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vacuoles.gif"/>
          <p:cNvPicPr/>
          <p:nvPr/>
        </p:nvPicPr>
        <p:blipFill>
          <a:blip r:embed="rId2"/>
          <a:stretch/>
        </p:blipFill>
        <p:spPr>
          <a:xfrm>
            <a:off x="6248520" y="1447920"/>
            <a:ext cx="247644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6019920" y="3657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Electron Micrograph of plant vacuole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460600" y="380880"/>
            <a:ext cx="45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unctions of Vacu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3429000" y="152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karyotic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5" descr="l3-40"/>
          <p:cNvPicPr/>
          <p:nvPr/>
        </p:nvPicPr>
        <p:blipFill>
          <a:blip r:embed="rId1"/>
          <a:stretch/>
        </p:blipFill>
        <p:spPr>
          <a:xfrm>
            <a:off x="762120" y="1219320"/>
            <a:ext cx="775332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828800" y="1219320"/>
          <a:ext cx="5529240" cy="5449680"/>
        </p:xfrm>
        <a:graphic>
          <a:graphicData uri="http://schemas.openxmlformats.org/drawingml/2006/table">
            <a:tbl>
              <a:tblPr/>
              <a:tblGrid>
                <a:gridCol w="2763720"/>
                <a:gridCol w="2765520"/>
              </a:tblGrid>
              <a:tr h="631800">
                <a:tc gridSpan="2"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uctural differences between Plant and Animal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120"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l walls almost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cell walls present outside the cell memb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3400"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stids occur in cytopla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stids are found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rioles present only i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ls of lower plant 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rioles always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rge vacuoles filled with cell 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cuoles, if present, are small and contractile 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orary ves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228600" y="228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al differences between Plant and Animal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80880" y="762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ble below shows the main structural differences between animal and plant ce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ShockwaveFlash1"/>
          <p:cNvGraphicFramePr/>
          <p:nvPr/>
        </p:nvGraphicFramePr>
        <p:xfrm>
          <a:off x="228600" y="401760"/>
          <a:ext cx="8609040" cy="64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1760"/>
                    <a:ext cx="8609040" cy="6456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933480" y="228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 us summarize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28600" y="10666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ree types of plastids found in plant cells are:Chromoplasts ,Leucoplasts and Chloroplas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color of chromoplasts is due to two pigments, carotene and xanthophy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ucoplasts are colourless due the absence of pig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loroplasts are usually disc-shaped and surrounded by a double membrane. The green colour of chloroplasts is caused by the green pigment chlorophy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loroplasts are the most important among the plastids since they are directly involved in photosynthes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vacuo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is the “storage chamber” of the cell. It is a round, fluid-filled sac found in both plant and animal cells. Plants usually have a few large vacuoles, while animal cells have smaller vacuo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vacuoles are used by the cells for storage. They also play a role in intracellular digestion and release of cell w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 us answ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00200" y="1219320"/>
            <a:ext cx="461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.Which of the following is Golgi apparatu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01000" y="1828800"/>
            <a:ext cx="2278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. Structure 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. Structure B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. Structure C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. Structure 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85800" y="396252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. Which of the following cell structures is the site of photosynthesi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. Golgi apparat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. Mitochond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. Chloropla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. Centrio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ontent Placeholder 2"/>
          <p:cNvSpPr/>
          <p:nvPr/>
        </p:nvSpPr>
        <p:spPr>
          <a:xfrm>
            <a:off x="38088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3. What organelle in higher plant cells contains chlorophyll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a. Chloropla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b. Cytos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c. Secretory vesic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2a5039"/>
                </a:solidFill>
                <a:latin typeface="Comic Sans MS"/>
              </a:rPr>
              <a:t>d. Nucle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2514600"/>
            <a:ext cx="769608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. In what cellular function does the structure shown here play a role?</a:t>
            </a:r>
            <a:br>
              <a:rPr sz="1000"/>
            </a:br>
            <a:br>
              <a:rPr sz="10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hey play a major role in protein synthesi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They act as the powerhouse for the cel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They are involved in the separation of chromosomes during cell divi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. They are involved in photosynthesi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ell_mitochondria1.gif"/>
          <p:cNvPicPr/>
          <p:nvPr/>
        </p:nvPicPr>
        <p:blipFill>
          <a:blip r:embed="rId2"/>
          <a:stretch/>
        </p:blipFill>
        <p:spPr>
          <a:xfrm>
            <a:off x="5638680" y="3124080"/>
            <a:ext cx="23972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30492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. Which of the following is nicknamed the “storage bag" of the cel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 Nucleol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Vacuo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Mitochondr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. Golgi appar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tent Placeholder 7"/>
          <p:cNvSpPr/>
          <p:nvPr/>
        </p:nvSpPr>
        <p:spPr>
          <a:xfrm>
            <a:off x="457200" y="2438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.The important role that the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ntractile vacuoles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found in animal cells play, is in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934200" y="2971800"/>
            <a:ext cx="3681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. accumulation of sugar and vitami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excretion of water and sal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digestion of engulfed food parti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. expansion of cell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533520" y="472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7.Which of these organelles is NOT found in plant cell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. Vacuo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Centrio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Mitochondr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. Nucle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685800" y="38088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.Which of these organelles is NOT found in animal cell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. Chlorop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Centrio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Mitochondr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. Nucle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609480" y="21337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140e"/>
                </a:solidFill>
                <a:latin typeface="Comic Sans MS"/>
              </a:rPr>
              <a:t>9. Which of the following statements correctly describes a difference between plant cells and animal cell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140e"/>
                </a:solidFill>
                <a:latin typeface="Comic Sans MS"/>
              </a:rPr>
              <a:t>a. Plant cells have an envelope surrounding the nucleus. Animal cells do no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140e"/>
                </a:solidFill>
                <a:latin typeface="Comic Sans MS"/>
              </a:rPr>
              <a:t>b. Animal cells contain mitochondria. Plant cells do no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140e"/>
                </a:solidFill>
                <a:latin typeface="Comic Sans MS"/>
              </a:rPr>
              <a:t>c. Animal cells contain chloroplasts. Plant cells do no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140e"/>
                </a:solidFill>
                <a:latin typeface="Comic Sans MS"/>
              </a:rPr>
              <a:t>d. Plant cells are surrounded by a cell wall. Animal cells are no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a14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58080" y="4114800"/>
            <a:ext cx="338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 Ribosomes  are maufactured   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86720" y="4572000"/>
            <a:ext cx="2724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. Mitochond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 Nucleol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. Centrio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stid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found in the cytoplasmic matrix of plant cells only. These structures are generally spherical or ovoid in shape and they are clearly visible in living cells. 3 types of plastids are found in plant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romopla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ucopla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l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317680" y="630360"/>
            <a:ext cx="585468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.Identify the following organelle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www.tvdsb.on.ca/westmin/science/sbi3a1/Cells/pcell.gif"/>
          <p:cNvPicPr/>
          <p:nvPr/>
        </p:nvPicPr>
        <p:blipFill>
          <a:blip r:embed="rId1"/>
          <a:stretch/>
        </p:blipFill>
        <p:spPr>
          <a:xfrm>
            <a:off x="762120" y="1600200"/>
            <a:ext cx="2685960" cy="3581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http://www.tvdsb.on.ca/westmin/science/sbi3a1/Cells/acell.gif"/>
          <p:cNvPicPr/>
          <p:nvPr/>
        </p:nvPicPr>
        <p:blipFill>
          <a:blip r:embed="rId2"/>
          <a:stretch/>
        </p:blipFill>
        <p:spPr>
          <a:xfrm>
            <a:off x="5638680" y="1600200"/>
            <a:ext cx="272412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0"/>
          <p:cNvSpPr/>
          <p:nvPr/>
        </p:nvSpPr>
        <p:spPr>
          <a:xfrm>
            <a:off x="946440" y="685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c0620"/>
                </a:solidFill>
                <a:uFillTx/>
                <a:latin typeface="Calibri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85800" y="1219320"/>
            <a:ext cx="6705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biology.arizona.edu/CELL_BIO/tutorials/pev/graphics/lysosome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library.thinkquest.org/C004535/media/lysosome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stolaf.edu/people/giannini/flashanimat/cellstructures/phagocitosis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educypedia.be/education/biologycellstruc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biology4kids.com/files/art/cell_mitochondria1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micro.magnet.fsu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tvdsb.on.ca/westmin/science/sbi3a1/Cells/cent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tvdsb.on.ca/westmin/science/sbi3a1/Cells/mito.sw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c0620"/>
                </a:solidFill>
                <a:latin typeface="Calibri"/>
              </a:rPr>
              <a:t>http://www.microscopy.fsu.edu/cells/mitochondria/images/mitochondriafigure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c06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3886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romopla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e46c0a"/>
                </a:solidFill>
                <a:latin typeface="Comic Sans MS"/>
              </a:rPr>
              <a:t>oran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 col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nd in petals of flowers and in fr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or is due to two pigments,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roten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xanthophy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rimary function in the cells of flowers is to </a:t>
            </a:r>
            <a:r>
              <a:rPr b="1" i="1" lang="en-US" sz="2800" spc="-1" strike="noStrike">
                <a:solidFill>
                  <a:srgbClr val="0070c0"/>
                </a:solidFill>
                <a:latin typeface="Comic Sans MS"/>
              </a:rPr>
              <a:t>attract agents of polli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in fruits to </a:t>
            </a:r>
            <a:r>
              <a:rPr b="1" i="1" lang="en-US" sz="2800" spc="-1" strike="noStrike">
                <a:solidFill>
                  <a:srgbClr val="0070c0"/>
                </a:solidFill>
                <a:latin typeface="Comic Sans MS"/>
              </a:rPr>
              <a:t>attract agents of dispers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man.gif"/>
          <p:cNvPicPr/>
          <p:nvPr/>
        </p:nvPicPr>
        <p:blipFill>
          <a:blip r:embed="rId2"/>
          <a:stretch/>
        </p:blipFill>
        <p:spPr>
          <a:xfrm>
            <a:off x="5762520" y="5172120"/>
            <a:ext cx="3381480" cy="16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utterfliesani.gif"/>
          <p:cNvPicPr/>
          <p:nvPr/>
        </p:nvPicPr>
        <p:blipFill>
          <a:blip r:embed="rId3"/>
          <a:stretch/>
        </p:blipFill>
        <p:spPr>
          <a:xfrm>
            <a:off x="7772400" y="2286000"/>
            <a:ext cx="11620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ucopla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e colourless plastids and occur in plant cells not exposed to light, such as roots and seed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lourless due the absence of pig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unc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centers of starch grain formatio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nvolved in th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synthesis of oils and protein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heerful_flowers.gif"/>
          <p:cNvPicPr/>
          <p:nvPr/>
        </p:nvPicPr>
        <p:blipFill>
          <a:blip r:embed="rId2"/>
          <a:stretch/>
        </p:blipFill>
        <p:spPr>
          <a:xfrm>
            <a:off x="1523880" y="6400800"/>
            <a:ext cx="5715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4343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la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0666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Comic Sans MS"/>
              </a:rPr>
              <a:t>discovered  by Schimper  in 1885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important among the plastids since they are directly involved in photosynthes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usually situated near the surface of the cell and occur in those parts that receive sufficient light, e.g. the palisade cells of leav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en colour  is due to  the green pigment chlorophy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hloro.gif"/>
          <p:cNvPicPr/>
          <p:nvPr/>
        </p:nvPicPr>
        <p:blipFill>
          <a:blip r:embed="rId1"/>
          <a:stretch/>
        </p:blipFill>
        <p:spPr>
          <a:xfrm>
            <a:off x="6705720" y="685800"/>
            <a:ext cx="1838160" cy="1362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766560" y="22096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typical chlorop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7010280" y="2666880"/>
            <a:ext cx="160020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6629400" y="56577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 leaf palisade cell containing large number of chloroplas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2895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tructure of Chloropla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3429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ually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isc-shap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surrounded by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ouble membran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luid within the center is called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rom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thin this fluid is a network of membrane-bound vesicles called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ylakoid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hat usually lie in stacks called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gran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contain the photosynthetic pigments - green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lorophyll a and b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the yellow to red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rana  interconnected by tubular membranes called the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amella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2-74.gif"/>
          <p:cNvPicPr/>
          <p:nvPr/>
        </p:nvPicPr>
        <p:blipFill>
          <a:blip r:embed="rId2"/>
          <a:stretch/>
        </p:blipFill>
        <p:spPr>
          <a:xfrm>
            <a:off x="4114800" y="228600"/>
            <a:ext cx="3191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nctions OF Chloropla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19810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lasts convert light energy (from the sun) to chemical energy via the process of photosynthesis.They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ntain enzymes and co-enzym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sary for the process of photosynthes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ShockwaveFlash1"/>
          <p:cNvGraphicFramePr/>
          <p:nvPr/>
        </p:nvGraphicFramePr>
        <p:xfrm>
          <a:off x="228600" y="304920"/>
          <a:ext cx="8532720" cy="63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8532720" cy="639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-8983440" y="-686880"/>
            <a:ext cx="27111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acu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ound, fluid-filled sac found in both plant and animal cells. Plants usually have a few large vacuoles, while animal cells have smaller vacuoles, if any. It stores food, water, and other materials for use by the cell. Wastes may also be stored in vacuol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schools.utah.gov/curr/science/sciber00/7th/cells/images/vacuole.gif"/>
          <p:cNvPicPr/>
          <p:nvPr/>
        </p:nvPicPr>
        <p:blipFill>
          <a:blip r:embed="rId2"/>
          <a:stretch/>
        </p:blipFill>
        <p:spPr>
          <a:xfrm>
            <a:off x="3200400" y="914400"/>
            <a:ext cx="156204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04920" y="2550960"/>
            <a:ext cx="883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, fluid-filled sac found in both plant and animal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ts usually have a few large vacuoles, while animal cells have smaller vacuo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ores food, water, and other materials for use by the cell. Wastes may also be stored in vacuoles. Thus called "storage chamber” of the ce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228120" y="3049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397320" y="15238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59:15Z</dcterms:created>
  <dc:creator>Shitanshu Aggarwal</dc:creator>
  <dc:description/>
  <dc:language>en-US</dc:language>
  <cp:lastModifiedBy>Vandana</cp:lastModifiedBy>
  <dcterms:modified xsi:type="dcterms:W3CDTF">2008-11-16T03:01:26Z</dcterms:modified>
  <cp:revision>96</cp:revision>
  <dc:subject/>
  <dc:title>Slide 1</dc:title>
</cp:coreProperties>
</file>